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1951-1FA8-469D-A2FD-47093FFAB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DEED-D78B-463B-B919-F7F3411C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92DD-DF88-4DA7-9E94-B0BC0AD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4FF0-D5DB-4A32-855B-7AFA36376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FF2F-0282-4AD4-B137-A7A791B8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4886-CD53-45C4-B84E-F04CB38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5B1E-AB8C-489E-B59A-72FF1207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4F10-B261-4010-851A-1F6E6B83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B14F-350D-4D04-9CA2-F77230C4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B17D-1F1F-4F47-9910-0032F02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B3EE-99C2-4BE5-A2C9-15DC57D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E695-4ED2-4F7A-8D34-5C8FBEDC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94795-8199-4532-918A-F53C7D7711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imensional Ar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mensional Arr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6484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mensional Arr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mensional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2183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 2-Dimensional Arr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efine an array object 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uble[][] a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the array and sto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first element of the array in the (array) object reference 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= new double[3][4]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im. array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600200" y="2666880"/>
            <a:ext cx="6446880" cy="1675080"/>
            <a:chOff x="1600200" y="2666880"/>
            <a:chExt cx="6446880" cy="167508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1600200" y="2666880"/>
              <a:ext cx="644688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1600200" y="2666880"/>
              <a:ext cx="644688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elements of a 2-dimensional arr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6" name="Group 2"/>
          <p:cNvGrpSpPr/>
          <p:nvPr/>
        </p:nvGrpSpPr>
        <p:grpSpPr>
          <a:xfrm>
            <a:off x="2057400" y="1905120"/>
            <a:ext cx="4960800" cy="579240"/>
            <a:chOff x="2057400" y="1905120"/>
            <a:chExt cx="4960800" cy="57924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905120"/>
              <a:ext cx="49608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4"/>
            <p:cNvSpPr/>
            <p:nvPr/>
          </p:nvSpPr>
          <p:spPr>
            <a:xfrm>
              <a:off x="2057400" y="1905120"/>
              <a:ext cx="4960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55245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rsing (visiting) all elements in a 2-dimensional arr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use the following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visit all element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68656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2-dimensional arrays --- manipulating pictur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fo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52480" y="2486160"/>
            <a:ext cx="592452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ing Pictur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ists 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number of (rows of) d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alled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3857760" cy="240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6:24:12Z</dcterms:created>
  <dc:creator>chengzuo</dc:creator>
  <dc:description/>
  <dc:language>en-US</dc:language>
  <cp:lastModifiedBy>chengzuo</cp:lastModifiedBy>
  <dcterms:modified xsi:type="dcterms:W3CDTF">2013-03-25T16:13:16Z</dcterms:modified>
  <cp:revision>23</cp:revision>
  <dc:subject/>
  <dc:title>2-Dimensional Arrays</dc:title>
</cp:coreProperties>
</file>