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8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12C8F-2C0B-497B-B403-536757FD722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BEF64-AB73-46DD-8441-3E61C004B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C4920-1038-4890-9ADF-CECA2BEA7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7F7C7-2E74-47BA-9466-09F4CA79D8B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1F037-966D-408C-AF0B-AC583F15D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FBE78-75AD-4027-BA8E-281DBB1E0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2E962-91E2-4B98-86C9-BF7B2988B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37FB1-1C7B-4A14-B561-7DF0D58FE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BA324-7B71-4C0B-B641-66B94D850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6ACDD-0F43-4928-84B0-3BFDAB014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C202A-9851-47A5-BC9F-E58529E0A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AD397-F6B2-4E74-A8B7-524B56AFB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4360"/>
            <a:ext cx="2131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4360"/>
            <a:ext cx="2132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42B0EF-7801-45AA-9B18-60AA0B5CC8F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ing and manipulation 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oating point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nformation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ng Floating Point Variable (2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Text Box 2"/>
          <p:cNvSpPr/>
          <p:nvPr/>
        </p:nvSpPr>
        <p:spPr>
          <a:xfrm>
            <a:off x="457200" y="1600200"/>
            <a:ext cx="82296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ion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u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will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 consecutive byt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M memo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at is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use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u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will then 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serv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ese memory byt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s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ssoci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e name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with the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8 bytes of) reserved memor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2133720" y="2057400"/>
            <a:ext cx="4867200" cy="294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 the value stored in a variable (1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ssignment state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n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 programming langu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nstructs the computer to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 the val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stored in 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bol "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s called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gnment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n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n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ef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hand-si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=" operat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s the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ceiving variabl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n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igh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hand-si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=" operat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s the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al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at is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gn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o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ing variabl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be end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with 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mi-colon ";"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2666880" y="2971800"/>
            <a:ext cx="3510000" cy="84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 the value stored in a variable (2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assignment statement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x=0.31415e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will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e valu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141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nto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mory ce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i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by the nam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1600200" y="2438280"/>
            <a:ext cx="6343560" cy="39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 the value stored in a variable (3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.out.println(x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will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e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stored at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mory ce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i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by the nam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nd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t to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in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1752480" y="2819520"/>
            <a:ext cx="595800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1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ng </a:t>
            </a:r>
            <a:r>
              <a:rPr b="1" i="1" lang="en-US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multipl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variables of the same typ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can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s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define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ultip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riab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 the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am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with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clau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by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arating the different variable nam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with 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1981080" y="3048120"/>
            <a:ext cx="52578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oating point operator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oating point operato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re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ithmeti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perato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at 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oating poi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valu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838080" y="3048120"/>
            <a:ext cx="7315200" cy="229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1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Priority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floating point arithmetic operator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87" name="Group 2"/>
          <p:cNvGrpSpPr/>
          <p:nvPr/>
        </p:nvGrpSpPr>
        <p:grpSpPr>
          <a:xfrm>
            <a:off x="2057400" y="1981080"/>
            <a:ext cx="5359320" cy="1751040"/>
            <a:chOff x="2057400" y="1981080"/>
            <a:chExt cx="5359320" cy="1751040"/>
          </a:xfrm>
        </p:grpSpPr>
        <p:pic>
          <p:nvPicPr>
            <p:cNvPr id="88" name="Picture 3" descr=""/>
            <p:cNvPicPr/>
            <p:nvPr/>
          </p:nvPicPr>
          <p:blipFill>
            <a:blip r:embed="rId1"/>
            <a:stretch/>
          </p:blipFill>
          <p:spPr>
            <a:xfrm>
              <a:off x="2057400" y="1981080"/>
              <a:ext cx="5359320" cy="175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4"/>
            <p:cNvSpPr/>
            <p:nvPr/>
          </p:nvSpPr>
          <p:spPr>
            <a:xfrm>
              <a:off x="2057400" y="1981080"/>
              <a:ext cx="5359320" cy="175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90" name="Picture 5" descr=""/>
          <p:cNvPicPr/>
          <p:nvPr/>
        </p:nvPicPr>
        <p:blipFill>
          <a:blip r:embed="rId2"/>
          <a:stretch/>
        </p:blipFill>
        <p:spPr>
          <a:xfrm>
            <a:off x="2895480" y="4267080"/>
            <a:ext cx="3908520" cy="175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 Librar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hematical functions (1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calcula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ten involv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hematical func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uch as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so on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nd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functions on 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culato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1828800" y="3352680"/>
            <a:ext cx="5648400" cy="206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hematical functions (2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ming languag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llow you to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hematical func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within 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ithmetic ex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2057400" y="2819520"/>
            <a:ext cx="5295960" cy="28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all (1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hough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u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stores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inary numb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e can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en as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cimal numb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rough 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rsion ope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1600200" y="3124080"/>
            <a:ext cx="599112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 and Method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Text Box 2"/>
          <p:cNvSpPr/>
          <p:nvPr/>
        </p:nvSpPr>
        <p:spPr>
          <a:xfrm>
            <a:off x="457200" y="1600200"/>
            <a:ext cx="82296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= 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ection of state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at performs 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x (useful) task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= 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iner for method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1905120" y="1600200"/>
            <a:ext cx="5057640" cy="385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zation of the Java library (1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nd "things" more easily, humans usually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z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= group) the "things" in 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erarchical manne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65898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zation of the Java library (2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cla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nside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 libra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has a uniqu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 path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n the form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                            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java.PackageName.ClassNam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1447920" y="3124080"/>
            <a:ext cx="631512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classes in the Java library (1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ay is : use the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 path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can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o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method stored in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class (inside the packag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s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2666880" y="3429000"/>
            <a:ext cx="3733920" cy="5619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"/>
          <p:cNvPicPr/>
          <p:nvPr/>
        </p:nvPicPr>
        <p:blipFill>
          <a:blip r:embed="rId2"/>
          <a:stretch/>
        </p:blipFill>
        <p:spPr>
          <a:xfrm>
            <a:off x="2895480" y="4191120"/>
            <a:ext cx="332424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classes in the Java library (2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ther way is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m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with an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mport clau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2590920" y="2514600"/>
            <a:ext cx="4251240" cy="7668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"/>
          <p:cNvPicPr/>
          <p:nvPr/>
        </p:nvPicPr>
        <p:blipFill>
          <a:blip r:embed="rId2"/>
          <a:stretch/>
        </p:blipFill>
        <p:spPr>
          <a:xfrm>
            <a:off x="2647800" y="3276720"/>
            <a:ext cx="4133880" cy="361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1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 parameters and output values of a method (1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 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hematical fun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hematical fun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has a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nique nam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hematical fun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has a number of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 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nd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    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p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hematical fun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will produce an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utp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3429000" y="2057400"/>
            <a:ext cx="224316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 parameters and output values of a method (2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resembles 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hematical fun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has a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nique "signature"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will learn more about "signatures" later in the course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has a number of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put paramete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a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utpu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some methods do not return any output values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store the return value in some variable (using an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gnment state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or else, the returned value will b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!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o invoke a method (1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 Synta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o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at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ny value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can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gniz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such methods by the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turn type vo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3" name="Picture 3" descr=""/>
          <p:cNvPicPr/>
          <p:nvPr/>
        </p:nvPicPr>
        <p:blipFill>
          <a:blip r:embed="rId1"/>
          <a:stretch/>
        </p:blipFill>
        <p:spPr>
          <a:xfrm>
            <a:off x="1371600" y="2590920"/>
            <a:ext cx="6529320" cy="69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o invoke a method (2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Synta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o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at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turn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 val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can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gniz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such methods by their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type which is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equal to vo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1981080" y="2590920"/>
            <a:ext cx="5427720" cy="190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 the 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 head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Text Box 2"/>
          <p:cNvSpPr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ramet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You must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rect numb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e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rect data typ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o a metho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If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you must assign it to 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of the correct typ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647040" cy="337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all (2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u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can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mbine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djacent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by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n the RAM memory to form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r memory cells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2286000" y="3124080"/>
            <a:ext cx="473400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1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happens when a method is 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d (1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ollowing figure shows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tu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e program executes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= Math.sqrt(a)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1752480" y="2743200"/>
            <a:ext cx="5600880" cy="323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1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happens when a method is 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d (2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s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e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o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qrt meth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5" name="Picture 3" descr=""/>
          <p:cNvPicPr/>
          <p:nvPr/>
        </p:nvPicPr>
        <p:blipFill>
          <a:blip r:embed="rId1"/>
          <a:stretch/>
        </p:blipFill>
        <p:spPr>
          <a:xfrm>
            <a:off x="1600200" y="2743200"/>
            <a:ext cx="605808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1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happens when a method is 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d (3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n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 body of sq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1676520" y="2438280"/>
            <a:ext cx="5838840" cy="326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1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happens when a method is 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d (4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it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o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tion of the method cal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val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pla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 c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n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1828800" y="2971800"/>
            <a:ext cx="5943600" cy="35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1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happens when a method is 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d (5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 the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ssign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val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o variabl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e have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4" name="Picture 3" descr=""/>
          <p:cNvPicPr/>
          <p:nvPr/>
        </p:nvPicPr>
        <p:blipFill>
          <a:blip r:embed="rId1"/>
          <a:stretch/>
        </p:blipFill>
        <p:spPr>
          <a:xfrm>
            <a:off x="2057400" y="2438280"/>
            <a:ext cx="5038560" cy="319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 (in general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n a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uter progr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s in fact a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mory cel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n a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uter progr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stores a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umbe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a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represents the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ata typ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cannot be changed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can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writ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(binary) numb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n the piece of paper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can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e number and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a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numb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n the paper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1905120" y="2666880"/>
            <a:ext cx="5114880" cy="146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oating point number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oating point numb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s 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b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where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ber of decimal digits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for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nd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e decimal po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s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fix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i.e., 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the decimal point "floats"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1371600" y="3200400"/>
            <a:ext cx="642924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oating Variable (1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 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loating point variab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behaves like a 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iece of pape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where you can record (exactly) 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ne floating point numbe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1371600" y="3124080"/>
            <a:ext cx="6523200" cy="21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oating Variable (2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oding meth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used is called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754 Standar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oating point numb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can also be written in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nent for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3200400" y="2895480"/>
            <a:ext cx="2895480" cy="1084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"/>
          <p:cNvPicPr/>
          <p:nvPr/>
        </p:nvPicPr>
        <p:blipFill>
          <a:blip r:embed="rId2"/>
          <a:stretch/>
        </p:blipFill>
        <p:spPr>
          <a:xfrm>
            <a:off x="2133720" y="4038480"/>
            <a:ext cx="5029200" cy="1166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"/>
          <p:cNvPicPr/>
          <p:nvPr/>
        </p:nvPicPr>
        <p:blipFill>
          <a:blip r:embed="rId3"/>
          <a:stretch/>
        </p:blipFill>
        <p:spPr>
          <a:xfrm>
            <a:off x="1295280" y="5334120"/>
            <a:ext cx="721836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oating Variable (3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ki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oating point variab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n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ouble preci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oating point vari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s 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 consecutive by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 memory as 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gle 64 bit memory cel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kind of variable is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only us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n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computa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ng Floating Point Variable (1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ry vari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n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must be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fine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you must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e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rrect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ynta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constr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o write 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defini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wo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nnounces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definition claus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ameOfVari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s an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i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which is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the variabl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definition clau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s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be end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with a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mi-colon ";"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2743200" y="2819520"/>
            <a:ext cx="3506760" cy="1004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0T14:19:30Z</dcterms:created>
  <dc:creator>chengzuo</dc:creator>
  <dc:description/>
  <dc:language>en-US</dc:language>
  <cp:lastModifiedBy>chengzuo</cp:lastModifiedBy>
  <dcterms:modified xsi:type="dcterms:W3CDTF">2013-01-28T15:58:10Z</dcterms:modified>
  <cp:revision>148</cp:revision>
  <dc:subject/>
  <dc:title>Storing and manipulation Floating point information</dc:title>
</cp:coreProperties>
</file>