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D5A5-D021-4466-98A3-93FBCD8BB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5245-3091-43CA-885E-16AC0D09B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90A3-8BED-4DED-A4CF-A6506D4D1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1697-1E80-40B9-8BB3-F41C044D6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DDDA-81D9-48F0-A654-D49FEA231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0251-2368-48BB-9305-5180B02F6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D362-770B-4D89-B2DB-13BA1E8CE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6765-90EB-4A9F-A36D-926BDE13F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198A-6D25-4E27-99ED-F5A54C36E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D635-7995-425F-B12D-268E2B3B3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740D-FCE3-4A20-A257-8D1CACFE4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9161-70EB-42FB-8E0B-420B6F4FA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F8D2F-6FFF-4E30-B08C-7F82ED7DC57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mputer memory and the binary number system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ing adjacent memory cell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h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 b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therefore, it can stor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971800"/>
            <a:ext cx="6172200" cy="1381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= 25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iffere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atter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These 256 patterns are: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....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11111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ing adjacent memory cells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143000"/>
            <a:ext cx="7620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pattern can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ncod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actl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ne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fore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ne 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store one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56 possible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You can store the numbe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to a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but you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an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tore the numbe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5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value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out of ran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1752480"/>
            <a:ext cx="2361960" cy="2977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0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0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1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2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0000001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3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.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1111111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255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memo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arg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447920"/>
            <a:ext cx="8229600" cy="4495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bi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(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inary dig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i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) a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es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memory devic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bi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s in fact a switch that can remember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(The digits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re digits used in the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binary number system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Byt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8 bi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byt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s in fact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one ro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</a:t>
            </a:r>
            <a:r>
              <a:rPr b="1" lang="en-US" sz="1900" spc="-1" strike="noStrike">
                <a:solidFill>
                  <a:srgbClr val="8b008b"/>
                </a:solidFill>
                <a:latin typeface="Times New Roman"/>
                <a:ea typeface="宋体"/>
              </a:rPr>
              <a:t>RAM memor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KByt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kilo byte =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1024 (= 2</a:t>
            </a:r>
            <a:r>
              <a:rPr b="1" lang="en-US" sz="19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10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) byte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(approximately 1,000 bytes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MByt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mega byte =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1048576 (= 2</a:t>
            </a:r>
            <a:r>
              <a:rPr b="1" lang="en-US" sz="19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0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) byte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(approximately 1,000,000 bytes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GByt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giga byte =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1073741824 (= 2</a:t>
            </a:r>
            <a:r>
              <a:rPr b="1" lang="en-US" sz="19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30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) byte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(approximately 1,000,000,000 bytes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TByt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tera byt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all this have to do with a computer ?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lso expressed a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inary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2 bi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uter can have ove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,000,000,000 by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4 Gigabytes) of memory.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ing adjacent memory cells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371600"/>
            <a:ext cx="883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mputer can combin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djacent bytes (memory cell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use it a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arger memory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hematically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6 bits memory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store one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1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= 6553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ifferent patter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fore, it can represent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(larger) numb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anging from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 − 655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4290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2674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ing adjacent memory cells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mputer can also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981080"/>
            <a:ext cx="7086600" cy="452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nsecutiv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by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use them a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2 bits memory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8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nsecutiv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by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use them a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4 bits memory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895480"/>
            <a:ext cx="4054320" cy="1008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ch a memory call can represent numbers ranging from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0 − (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3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-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0 − 429496729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4952880"/>
            <a:ext cx="4054680" cy="1008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ch a memory call can represent numbers ranging from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0 − (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6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-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0 − 184467440737095516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ing adjacent memory cells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computer accesses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AM mem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it specifi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971800"/>
            <a:ext cx="4343400" cy="1381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location (addr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 of by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 need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ition: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743200"/>
            <a:ext cx="6477120" cy="2684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ctionary definition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581280"/>
            <a:ext cx="5105520" cy="1557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tep-by-step proced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solving a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accomplishing some ta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especially by means of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Algorithm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Algorithm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819520"/>
            <a:ext cx="6705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 a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can b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xecu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a compu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ing numbers using a row of switches (con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n represent each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ing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ifferent 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switch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510552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Algorithms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perties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lgorithm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514600"/>
            <a:ext cx="6705720" cy="378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te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n algorithm must be consist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can be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execu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a compu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n algorithm must b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unambiguo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emember that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um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machine like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il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o what it is told t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olv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mbig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equires som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thinking (intelligence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hich computers cannot do !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952880"/>
            <a:ext cx="42670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an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in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14164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ing a computer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ing a compu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mean 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ing a comput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nce a computer c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ecut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achine instru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encoded in binary numbers), this mean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133720"/>
            <a:ext cx="57913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ogramming a compu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instruct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erform a task/solve a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       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4572000"/>
            <a:ext cx="586764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steps of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i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chine instru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!!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languages used in computer programmi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chine languag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133720"/>
            <a:ext cx="7543800" cy="3957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achi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struction 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consist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binary) numb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encode instructions for the compu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 computer (CPU) has its ow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achi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I.e., the instruction cod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encode a different instruction for different CPU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ction encoding was discussed in this webnote: click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languages used in computer programming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sembler language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w lev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rogramming languag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200400"/>
            <a:ext cx="7543800" cy="1747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ssembler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nsist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English like) mnemon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ne mnemon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ach machine instru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compu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languages used in computer programming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n assembler program look lik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ssembler instru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nemon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corresponds to a uniqu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achine instru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133720"/>
            <a:ext cx="7543800" cy="3240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tart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dd x, y &lt;-- one assembler instr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sub x, y &lt;-- one assembler instruction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..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..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cting a computer to execute an algorithm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eveloped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pecializ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langu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based on the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English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nstruct/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 compu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 specialized languages are call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276720"/>
            <a:ext cx="4953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igh leve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programming langu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457200"/>
            <a:ext cx="8153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programming languag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752480"/>
            <a:ext cx="8001000" cy="4038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igh level programm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nsist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English-like) "people"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if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writing computer algorithm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igh level programm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llows the programmer to writ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enten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is language which can be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asil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transl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chine instru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enten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ritten in a high level programming language are call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tat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049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programming language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21932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n assembler program look lik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752480"/>
            <a:ext cx="6781680" cy="487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main(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{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f ( x &gt; y ) // One sentence (statement) in a high level prog. lang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{ max = x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ls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{ max = y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}</a:t>
            </a:r>
            <a:r>
              <a:rPr b="1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....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}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programming language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ne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tatement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n a high level programming language is usually translated into multiple machine instruction that achieve the effect specified by the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tatement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5160"/>
                <a:tab algn="l" pos="10512360"/>
                <a:tab algn="l" pos="1051416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inary numb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binary number syste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uses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2 digi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encode a number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 means that you can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only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 u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digits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2200" spc="-1" strike="noStrike">
                <a:solidFill>
                  <a:srgbClr val="8b008b"/>
                </a:solidFill>
                <a:latin typeface="Times New Roman"/>
                <a:ea typeface="宋体"/>
              </a:rPr>
              <a:t>write a </a:t>
            </a:r>
            <a:r>
              <a:rPr b="1" i="1" lang="en-US" sz="2200" spc="-1" strike="noStrike">
                <a:solidFill>
                  <a:srgbClr val="8b008b"/>
                </a:solidFill>
                <a:latin typeface="Times New Roman"/>
                <a:ea typeface="宋体"/>
              </a:rPr>
              <a:t>binary numb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0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some binary number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133720"/>
            <a:ext cx="3962520" cy="93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represents no value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= represents a unit value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3962520"/>
            <a:ext cx="2590560" cy="2717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1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10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         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d so on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 well-known programming languag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ll-known programming languag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19320" y="3048120"/>
          <a:ext cx="7391160" cy="213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73911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rogram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rogram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362320"/>
            <a:ext cx="6858000" cy="230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pro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er 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ed (writte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 some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programm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s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ogramming langu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“English-like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u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or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from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nglish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ation gap: algorithm in programming and comp instruc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ce the followi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representation ga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2286000"/>
            <a:ext cx="6781680" cy="3225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pressed in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rogramm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"English-like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e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stru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a computer execute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s (that encode the instructio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ation gap: algorithm in programming and comp instr.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47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971800"/>
            <a:ext cx="556236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ome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omet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mus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transl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pressed in a </a:t>
            </a:r>
            <a:r>
              <a:rPr b="1" lang="en-US" sz="2400" spc="-1" strike="noStrike">
                <a:solidFill>
                  <a:srgbClr val="8b0000"/>
                </a:solidFill>
                <a:latin typeface="Times New Roman"/>
                <a:ea typeface="宋体"/>
              </a:rPr>
              <a:t>programm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encode the </a:t>
            </a:r>
            <a:r>
              <a:rPr b="1" lang="en-US" sz="2400" spc="-1" strike="noStrike">
                <a:solidFill>
                  <a:srgbClr val="8b0000"/>
                </a:solidFill>
                <a:latin typeface="Times New Roman"/>
                <a:ea typeface="宋体"/>
              </a:rPr>
              <a:t>same instru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s the original algorith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ridging the translation gap: compiler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pretty complex) computer pro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does th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trans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call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048120"/>
            <a:ext cx="20574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mpilation (= translation) process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w we c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xecu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program i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achine instru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using the comman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following figure summarizes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ranslation proc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3048120"/>
            <a:ext cx="16002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&gt;&gt; a.ou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01992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riting computer programs: trust your compiler !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you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rite a computer pro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you will write it in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igh level programm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1" lang="en-US" sz="2400" spc="-1" strike="noStrike">
                <a:solidFill>
                  <a:srgbClr val="8b0000"/>
                </a:solidFill>
                <a:latin typeface="Times New Roman"/>
                <a:ea typeface="宋体"/>
              </a:rPr>
              <a:t>trust the compiler (translator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do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irtually im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write a large computer program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chine language (binary numbe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inary numb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coded (represented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inary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computed as foll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971800"/>
            <a:ext cx="21333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nary numb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971800"/>
            <a:ext cx="4876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lue encoded by the binary nu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36720" y="3997440"/>
            <a:ext cx="2133360" cy="453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n-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n-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... 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889440"/>
            <a:ext cx="4800600" cy="453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  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n-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×2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n-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+ 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n-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×2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n-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+ ... + 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×2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+ d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×2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inary numb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2514600"/>
          <a:ext cx="7848720" cy="25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78487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inary numb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w you should understand how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ifferent st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se 3 switches represent the numbe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-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ing the </a:t>
            </a:r>
            <a:r>
              <a:rPr b="1" lang="en-US" sz="2400" spc="-1" strike="noStrike">
                <a:solidFill>
                  <a:srgbClr val="8b008b"/>
                </a:solidFill>
                <a:latin typeface="Times New Roman"/>
                <a:ea typeface="宋体"/>
              </a:rPr>
              <a:t>binary number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47242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cut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inary numb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jok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y to understand this jok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5761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ead: there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inary 10 (= 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s of people: those who understand binary (numbers) and those who don't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all this have to do with a computer 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call what we have learned about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er RAM mem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048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438280"/>
            <a:ext cx="7162920" cy="379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nsist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ltiple memory cel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tore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613872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all this have to do with a computer ? (con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nn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etwee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er mem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the </a:t>
            </a:r>
            <a:r>
              <a:rPr b="1" lang="en-US" sz="2400" spc="-1" strike="noStrike">
                <a:solidFill>
                  <a:srgbClr val="8b0000"/>
                </a:solidFill>
                <a:latin typeface="Times New Roman"/>
                <a:ea typeface="宋体"/>
              </a:rPr>
              <a:t>binary number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2590920"/>
            <a:ext cx="7238880" cy="4162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e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inary number enco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store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3886200"/>
            <a:ext cx="51735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05:17Z</dcterms:created>
  <dc:creator>Nathanie</dc:creator>
  <dc:description/>
  <dc:language>en-US</dc:language>
  <cp:lastModifiedBy>chengzuo</cp:lastModifiedBy>
  <dcterms:modified xsi:type="dcterms:W3CDTF">2013-01-23T16:47:02Z</dcterms:modified>
  <cp:revision>85</cp:revision>
  <dc:subject/>
  <dc:title>The computer memory and the binary number system</dc:title>
</cp:coreProperties>
</file>