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8D4B-0AE1-46EB-BEF7-6C2F6F6F16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63E9-8C41-41F9-AFDE-7E5194A9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BC4C-CA9F-4268-AC1A-49F69DE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54F6-EDAB-48F8-A8FB-20299A24D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55F2-1A2F-4498-8090-6ABFB88D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D103-A79A-419B-BB69-D9739363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965E-262B-4BBE-8264-2C03095D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B393-738C-47E3-A40A-9C43A8C2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01EE-66A5-4DBD-9ECA-655E3AAB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E3C6-9EC8-47C1-8ED4-20C54AEA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51CD-E839-4B19-A34D-08B99586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E3E6-FD6D-4A4E-AD47-5C02A330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FB33E-B425-4E98-893E-65BDC20B06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statements and Boolean expres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techniques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diagram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represent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use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ap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bo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represen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es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use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i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techniques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diagram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0" name="Group 2"/>
          <p:cNvGrpSpPr/>
          <p:nvPr/>
        </p:nvGrpSpPr>
        <p:grpSpPr>
          <a:xfrm>
            <a:off x="2133720" y="2362320"/>
            <a:ext cx="4846680" cy="2151000"/>
            <a:chOff x="2133720" y="2362320"/>
            <a:chExt cx="4846680" cy="2151000"/>
          </a:xfrm>
        </p:grpSpPr>
        <p:pic>
          <p:nvPicPr>
            <p:cNvPr id="71" name="Picture 3" descr=""/>
            <p:cNvPicPr/>
            <p:nvPr/>
          </p:nvPicPr>
          <p:blipFill>
            <a:blip r:embed="rId1"/>
            <a:stretch/>
          </p:blipFill>
          <p:spPr>
            <a:xfrm>
              <a:off x="2133720" y="2362320"/>
              <a:ext cx="48466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4"/>
            <p:cNvSpPr/>
            <p:nvPr/>
          </p:nvSpPr>
          <p:spPr>
            <a:xfrm>
              <a:off x="2133720" y="2362320"/>
              <a:ext cx="4846680" cy="21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logical) data type boolea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-in (primitive) 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ic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ogical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co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 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by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to sto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 liter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boolean literals (= logical constan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ywor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served word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174456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 boolean typed variables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d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 NameOfVariable 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nounce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efinition clau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Of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ich i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ariab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efinition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e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mi-colon ";“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 typed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sto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 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 (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 boolean typed variables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2590920" y="1905120"/>
            <a:ext cx="3990960" cy="3730680"/>
            <a:chOff x="2590920" y="1905120"/>
            <a:chExt cx="3990960" cy="373068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2590920" y="1905120"/>
              <a:ext cx="399096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4"/>
            <p:cNvSpPr/>
            <p:nvPr/>
          </p:nvSpPr>
          <p:spPr>
            <a:xfrm>
              <a:off x="2590920" y="1905120"/>
              <a:ext cx="3990960" cy="37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that return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sul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Compare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eric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mpare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logical) expres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 resul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operator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return the valu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is successfu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return the valu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is unsuccessfu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tomatic convers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f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pply f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operat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69105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operators (3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v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prior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941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operators (4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3" name="Group 2"/>
          <p:cNvGrpSpPr/>
          <p:nvPr/>
        </p:nvGrpSpPr>
        <p:grpSpPr>
          <a:xfrm>
            <a:off x="0" y="1981080"/>
            <a:ext cx="4556160" cy="3046680"/>
            <a:chOff x="0" y="1981080"/>
            <a:chExt cx="4556160" cy="3046680"/>
          </a:xfrm>
        </p:grpSpPr>
        <p:pic>
          <p:nvPicPr>
            <p:cNvPr id="9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4556160" cy="30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4"/>
            <p:cNvSpPr/>
            <p:nvPr/>
          </p:nvSpPr>
          <p:spPr>
            <a:xfrm>
              <a:off x="0" y="1981080"/>
              <a:ext cx="4556160" cy="30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973760" y="1981080"/>
            <a:ext cx="4170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Java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dit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f a given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tisfi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kes sure that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fore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action is perform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22884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operator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8" name="Group 2"/>
          <p:cNvGrpSpPr/>
          <p:nvPr/>
        </p:nvGrpSpPr>
        <p:grpSpPr>
          <a:xfrm>
            <a:off x="1447920" y="2743200"/>
            <a:ext cx="6619680" cy="1827360"/>
            <a:chOff x="1447920" y="2743200"/>
            <a:chExt cx="6619680" cy="1827360"/>
          </a:xfrm>
        </p:grpSpPr>
        <p:pic>
          <p:nvPicPr>
            <p:cNvPr id="99" name="Picture 3" descr=""/>
            <p:cNvPicPr/>
            <p:nvPr/>
          </p:nvPicPr>
          <p:blipFill>
            <a:blip r:embed="rId1"/>
            <a:stretch/>
          </p:blipFill>
          <p:spPr>
            <a:xfrm>
              <a:off x="1447920" y="2743200"/>
              <a:ext cx="661968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1447920" y="2743200"/>
              <a:ext cx="6619680" cy="18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operator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990720" y="2438280"/>
            <a:ext cx="3206520" cy="2589480"/>
            <a:chOff x="990720" y="2438280"/>
            <a:chExt cx="3206520" cy="258948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990720" y="2438280"/>
              <a:ext cx="3206520" cy="25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990720" y="2438280"/>
              <a:ext cx="320652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12408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operators (3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7" name="Group 2"/>
          <p:cNvGrpSpPr/>
          <p:nvPr/>
        </p:nvGrpSpPr>
        <p:grpSpPr>
          <a:xfrm>
            <a:off x="1828800" y="2133720"/>
            <a:ext cx="5518080" cy="2970000"/>
            <a:chOff x="1828800" y="2133720"/>
            <a:chExt cx="5518080" cy="2970000"/>
          </a:xfrm>
        </p:grpSpPr>
        <p:pic>
          <p:nvPicPr>
            <p:cNvPr id="108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2133720"/>
              <a:ext cx="551808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4"/>
            <p:cNvSpPr/>
            <p:nvPr/>
          </p:nvSpPr>
          <p:spPr>
            <a:xfrm>
              <a:off x="1828800" y="2133720"/>
              <a:ext cx="5518080" cy="29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operators (4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228600" y="2209680"/>
            <a:ext cx="4313160" cy="2894040"/>
            <a:chOff x="228600" y="2209680"/>
            <a:chExt cx="4313160" cy="2894040"/>
          </a:xfrm>
        </p:grpSpPr>
        <p:pic>
          <p:nvPicPr>
            <p:cNvPr id="112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2209680"/>
              <a:ext cx="4313160" cy="28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4"/>
            <p:cNvSpPr/>
            <p:nvPr/>
          </p:nvSpPr>
          <p:spPr>
            <a:xfrm>
              <a:off x="228600" y="2209680"/>
              <a:ext cx="4313160" cy="28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441792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trick: test if a number is between 2 numbers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gram print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yes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≤ a ≤ 2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eg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us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perator "&lt;=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83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trick: test if a number is between 2 numbers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9" name="Group 2"/>
          <p:cNvGrpSpPr/>
          <p:nvPr/>
        </p:nvGrpSpPr>
        <p:grpSpPr>
          <a:xfrm>
            <a:off x="1523880" y="2590920"/>
            <a:ext cx="6282000" cy="1751040"/>
            <a:chOff x="1523880" y="2590920"/>
            <a:chExt cx="6282000" cy="1751040"/>
          </a:xfrm>
        </p:grpSpPr>
        <p:pic>
          <p:nvPicPr>
            <p:cNvPr id="120" name="Picture 3" descr=""/>
            <p:cNvPicPr/>
            <p:nvPr/>
          </p:nvPicPr>
          <p:blipFill>
            <a:blip r:embed="rId1"/>
            <a:stretch/>
          </p:blipFill>
          <p:spPr>
            <a:xfrm>
              <a:off x="1523880" y="2590920"/>
              <a:ext cx="628200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4"/>
            <p:cNvSpPr/>
            <p:nvPr/>
          </p:nvSpPr>
          <p:spPr>
            <a:xfrm>
              <a:off x="1523880" y="2590920"/>
              <a:ext cx="628200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2895480" y="4876920"/>
            <a:ext cx="42562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trick: test if a number is between 2 numbers (3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4" name="Group 2"/>
          <p:cNvGrpSpPr/>
          <p:nvPr/>
        </p:nvGrpSpPr>
        <p:grpSpPr>
          <a:xfrm>
            <a:off x="2895480" y="1828800"/>
            <a:ext cx="3579840" cy="4730760"/>
            <a:chOff x="2895480" y="1828800"/>
            <a:chExt cx="3579840" cy="473076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2895480" y="1828800"/>
              <a:ext cx="357984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2895480" y="1828800"/>
              <a:ext cx="3579840" cy="47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Java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nounces (to th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mpil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we started an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dition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u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 CONDITION 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llows th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th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 clau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can write (only) 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statem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2511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 clau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if-statement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known 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olea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express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                      a &lt; 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 clau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if-statement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2905200" y="1916280"/>
            <a:ext cx="3706560" cy="4330440"/>
            <a:chOff x="2905200" y="1916280"/>
            <a:chExt cx="3706560" cy="4330440"/>
          </a:xfrm>
        </p:grpSpPr>
        <p:pic>
          <p:nvPicPr>
            <p:cNvPr id="53" name="Picture 3" descr=""/>
            <p:cNvPicPr/>
            <p:nvPr/>
          </p:nvPicPr>
          <p:blipFill>
            <a:blip r:embed="rId1"/>
            <a:stretch/>
          </p:blipFill>
          <p:spPr>
            <a:xfrm>
              <a:off x="2905200" y="1916280"/>
              <a:ext cx="3706560" cy="43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>
              <a:off x="2905200" y="1916280"/>
              <a:ext cx="3706560" cy="43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atements in the "then"-part of 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r of "{" and "}" br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in a Java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9529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atements in the "then"-part of 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ement b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grouped together b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{ .... }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b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single) 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5400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techniques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hart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h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represent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use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ang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use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mo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d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 in the algorith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techniques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hart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2509920" y="2111400"/>
            <a:ext cx="4122720" cy="3502080"/>
            <a:chOff x="2509920" y="2111400"/>
            <a:chExt cx="4122720" cy="3502080"/>
          </a:xfrm>
        </p:grpSpPr>
        <p:pic>
          <p:nvPicPr>
            <p:cNvPr id="65" name="Picture 3" descr=""/>
            <p:cNvPicPr/>
            <p:nvPr/>
          </p:nvPicPr>
          <p:blipFill>
            <a:blip r:embed="rId1"/>
            <a:stretch/>
          </p:blipFill>
          <p:spPr>
            <a:xfrm>
              <a:off x="2509920" y="2111400"/>
              <a:ext cx="4122720" cy="35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4"/>
            <p:cNvSpPr/>
            <p:nvPr/>
          </p:nvSpPr>
          <p:spPr>
            <a:xfrm>
              <a:off x="2509920" y="2111400"/>
              <a:ext cx="4122720" cy="35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1:40Z</dcterms:created>
  <dc:creator>chengzuo</dc:creator>
  <dc:description/>
  <dc:language>en-US</dc:language>
  <cp:lastModifiedBy>chengzuo</cp:lastModifiedBy>
  <cp:lastPrinted>2012-09-24T17:33:22Z</cp:lastPrinted>
  <dcterms:modified xsi:type="dcterms:W3CDTF">2013-02-08T16:44:59Z</dcterms:modified>
  <cp:revision>104</cp:revision>
  <dc:subject/>
  <dc:title>Conditional statements and Boolean expressions</dc:title>
</cp:coreProperties>
</file>