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FDC1E-9239-4C17-BF93-5BDCDE00E6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94A9F-D45D-4311-BCEF-F953BBB6B7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07EE6-1328-411A-9A17-880B104EC9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4CE22-FAA0-40BF-BF06-9D6ADFD6EF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75330-1DAA-4FE6-9783-CC0B4DC66E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4A5C6-7F6F-41D0-9100-044EECD56D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18DCC-DE5C-4CE7-BDA1-70916FEFF0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7C85F-9DC3-4DC8-BF93-7E0A13BCB9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2CD71-57D7-4C46-B46E-D7CC53C870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83312-61F6-4596-9B8F-5B921378CC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83E12-A6C1-44B4-9425-C993FD1D04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DD869-DEC0-4A91-9A80-CB337B4982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C50EC-DED0-456A-8FE9-74587EC870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581DA-062E-4D7B-AE11-99492F27CB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78F3D-7AA1-4AA3-AF0B-8937AD0E91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4DAB9-2D4D-4C9E-B11D-12BBD5F796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97F67-BD66-4DC2-B424-67843C3530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09CBE-3031-48AB-84BA-6296348ACD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CE49E-21C5-4E10-B844-C97C9DB477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E4102-0081-4EC7-9DED-28E009972C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A3170-3D19-49B8-A286-5C995F87C8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3B91-A0C6-4158-9963-BA3F3970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4A2C-BCA2-4A17-B0E7-8212003A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EFD2-5503-488A-8FC2-74C3A535F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8BA3-2E0E-45A0-8450-D6CE19976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7210-0DF0-47DF-AD62-A3165152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BD07-412C-4578-AE1C-8A741348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2E88-E1B8-40E5-ACF4-8DE2C484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53A7-FCC1-4A7E-837C-6D6A234D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7749-8B63-4721-AB21-038E5492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8C70-6E8F-4974-8180-FF00022D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A325-6AFA-4DDD-8B97-2333BFCE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9C7A-92BF-4D28-B957-733A390D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1DA685-8EDF-41FF-AC5C-1142841A10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20280" y="118908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9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r-stat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example 1: find all divisors of a number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 Java program that reads in an integer n... and prints all its divis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: n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: 1, 2, 3, 4, 6, 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example 1: find all divisors of a number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if 12 is divisible b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if 12 is divisible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if 12 is divisible by 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do not need to check numbers &gt; 12 because only number ≤ 12 can be divisor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9920" y="228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example 1: find all divisors of a number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9000"/>
          </a:bodyPr>
          <a:p>
            <a:pPr marL="384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(x = 1, 2, 3, ...., 10) do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notation can b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ver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a for-statement very natur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( x = 1; x &lt;= 10; x = x + 1 )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example 1: find all divisors of a number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5000"/>
          </a:bodyPr>
          <a:p>
            <a:pPr marL="3668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class Divisors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static void main(String[] ar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nner in = new Scanner(System.i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n, 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= in.nextInt();            // Read i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( x = 1; x &lt;= n; x++ )     // Run x = 1, 2, ...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( n % x == 0 )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 // x is a divisor of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x);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example 2: compute the sum 1+2+3+...+n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: n = some integer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 = 0;    // Clear the running total !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( x = 1, 2, 3, ..., n )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x to sum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su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example 2: compute the sum 1+2+3+...+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5000"/>
          </a:bodyPr>
          <a:p>
            <a:pPr marL="3668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class Divisors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static void main(String[] ar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nner in = new Scanner(System.i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n, x, sum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("Enter a number n: 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= in.nextInt();            // Read i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( x = 1; x &lt;= n; x++ )   // Run x = 1, 2, ..., n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 = sum + x;    // Add x to 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sum);   // Print final 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example 3: compute factorial n!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 Java program that reads in an integer n... and prints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! = 1×2×3×...×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: n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: 120   (because 1 × 2 × 3 × 4 × 5 = 12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example 3: compute factorial n!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23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: n = some integer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 = 1;    // Set running product 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( x = 1, 2, 3, ..., n )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y x into product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su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example 3: compute factorial n!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1000"/>
          </a:bodyPr>
          <a:p>
            <a:pPr marL="349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class Factorial01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static void main(String[] args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nner in = new Scanner(System.i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n, x, product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("Enter a number n: 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= in.nextInt();            // Read i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( x = 1; x &lt;= n; x++ 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 = product * x;    // Multiply x into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product);   // Print final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4240" y="196920"/>
            <a:ext cx="811368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53880"/>
                <a:tab algn="l" pos="708120"/>
                <a:tab algn="l" pos="1062000"/>
                <a:tab algn="l" pos="1417680"/>
                <a:tab algn="l" pos="1771560"/>
                <a:tab algn="l" pos="2125800"/>
                <a:tab algn="l" pos="2479680"/>
                <a:tab algn="l" pos="2835360"/>
                <a:tab algn="l" pos="3189240"/>
                <a:tab algn="l" pos="3543480"/>
                <a:tab algn="l" pos="3897360"/>
                <a:tab algn="l" pos="4253040"/>
                <a:tab algn="l" pos="4606920"/>
                <a:tab algn="l" pos="4960800"/>
                <a:tab algn="l" pos="5315040"/>
                <a:tab algn="l" pos="5670720"/>
                <a:tab algn="l" pos="6024600"/>
                <a:tab algn="l" pos="6378480"/>
                <a:tab algn="l" pos="6732720"/>
                <a:tab algn="l" pos="7088040"/>
                <a:tab algn="l" pos="7294680"/>
                <a:tab algn="l" pos="7854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reak and continue state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84240" y="2145960"/>
            <a:ext cx="8113680" cy="443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5800" indent="-442800">
              <a:lnSpc>
                <a:spcPct val="93000"/>
              </a:lnSpc>
              <a:spcAft>
                <a:spcPts val="1426"/>
              </a:spcAft>
              <a:buClr>
                <a:srgbClr val="760078"/>
              </a:buClr>
              <a:buSzPct val="171000"/>
              <a:buFont typeface="Gill Sans"/>
              <a:buChar char="•"/>
              <a:tabLst>
                <a:tab algn="l" pos="685800"/>
                <a:tab algn="l" pos="773280"/>
                <a:tab algn="l" pos="1127160"/>
                <a:tab algn="l" pos="1482840"/>
                <a:tab algn="l" pos="1836720"/>
                <a:tab algn="l" pos="2190600"/>
                <a:tab algn="l" pos="2544840"/>
                <a:tab algn="l" pos="2900520"/>
                <a:tab algn="l" pos="3254400"/>
                <a:tab algn="l" pos="3608280"/>
                <a:tab algn="l" pos="3962520"/>
                <a:tab algn="l" pos="4317840"/>
                <a:tab algn="l" pos="4672080"/>
                <a:tab algn="l" pos="5025960"/>
                <a:tab algn="l" pos="5380200"/>
                <a:tab algn="l" pos="5735520"/>
                <a:tab algn="l" pos="6089760"/>
                <a:tab algn="l" pos="6443640"/>
                <a:tab algn="l" pos="6797520"/>
                <a:tab algn="l" pos="7153200"/>
                <a:tab algn="l" pos="7507440"/>
                <a:tab algn="l" pos="7854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760078"/>
                </a:solidFill>
                <a:latin typeface="Times New Roman"/>
                <a:ea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85800"/>
                <a:tab algn="l" pos="773280"/>
                <a:tab algn="l" pos="1127160"/>
                <a:tab algn="l" pos="1482840"/>
                <a:tab algn="l" pos="1836720"/>
                <a:tab algn="l" pos="2190600"/>
                <a:tab algn="l" pos="2544840"/>
                <a:tab algn="l" pos="2900520"/>
                <a:tab algn="l" pos="3254400"/>
                <a:tab algn="l" pos="3608280"/>
                <a:tab algn="l" pos="3962520"/>
                <a:tab algn="l" pos="4317840"/>
                <a:tab algn="l" pos="4672080"/>
                <a:tab algn="l" pos="5025960"/>
                <a:tab algn="l" pos="5380200"/>
                <a:tab algn="l" pos="5735520"/>
                <a:tab algn="l" pos="6089760"/>
                <a:tab algn="l" pos="6443640"/>
                <a:tab algn="l" pos="6797520"/>
                <a:tab algn="l" pos="7153200"/>
                <a:tab algn="l" pos="7507440"/>
                <a:tab algn="l" pos="7854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442800">
              <a:lnSpc>
                <a:spcPct val="93000"/>
              </a:lnSpc>
              <a:spcBef>
                <a:spcPts val="924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773280"/>
                <a:tab algn="l" pos="1127160"/>
                <a:tab algn="l" pos="1482840"/>
                <a:tab algn="l" pos="1836720"/>
                <a:tab algn="l" pos="2190600"/>
                <a:tab algn="l" pos="2544840"/>
                <a:tab algn="l" pos="2900520"/>
                <a:tab algn="l" pos="3254400"/>
                <a:tab algn="l" pos="3608280"/>
                <a:tab algn="l" pos="3962520"/>
                <a:tab algn="l" pos="4317840"/>
                <a:tab algn="l" pos="4672080"/>
                <a:tab algn="l" pos="5025960"/>
                <a:tab algn="l" pos="5380200"/>
                <a:tab algn="l" pos="5735520"/>
                <a:tab algn="l" pos="6089760"/>
                <a:tab algn="l" pos="6443640"/>
                <a:tab algn="l" pos="6797520"/>
                <a:tab algn="l" pos="7153200"/>
                <a:tab algn="l" pos="7507440"/>
                <a:tab algn="l" pos="7854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2 special stat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can </a:t>
            </a:r>
            <a:r>
              <a:rPr b="1" i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affect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 the exec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loop stat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ch as a </a:t>
            </a:r>
            <a:r>
              <a:rPr b="1" i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for-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442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773280"/>
                <a:tab algn="l" pos="1127160"/>
                <a:tab algn="l" pos="1482840"/>
                <a:tab algn="l" pos="1836720"/>
                <a:tab algn="l" pos="2190600"/>
                <a:tab algn="l" pos="2544840"/>
                <a:tab algn="l" pos="2900520"/>
                <a:tab algn="l" pos="3254400"/>
                <a:tab algn="l" pos="3608280"/>
                <a:tab algn="l" pos="3962520"/>
                <a:tab algn="l" pos="4317840"/>
                <a:tab algn="l" pos="4672080"/>
                <a:tab algn="l" pos="5025960"/>
                <a:tab algn="l" pos="5380200"/>
                <a:tab algn="l" pos="5735520"/>
                <a:tab algn="l" pos="6089760"/>
                <a:tab algn="l" pos="6443640"/>
                <a:tab algn="l" pos="6797520"/>
                <a:tab algn="l" pos="7153200"/>
                <a:tab algn="l" pos="7507440"/>
                <a:tab algn="l" pos="7854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special stat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2000" indent="-245880">
              <a:lnSpc>
                <a:spcPct val="93000"/>
              </a:lnSpc>
              <a:spcAft>
                <a:spcPts val="1137"/>
              </a:spcAft>
              <a:buClr>
                <a:srgbClr val="fb0007"/>
              </a:buClr>
              <a:buFont typeface="Courier New"/>
              <a:buChar char="■"/>
              <a:tabLst>
                <a:tab algn="l" pos="685800"/>
                <a:tab algn="l" pos="773280"/>
                <a:tab algn="l" pos="1127160"/>
                <a:tab algn="l" pos="1482840"/>
                <a:tab algn="l" pos="1836720"/>
                <a:tab algn="l" pos="2190600"/>
                <a:tab algn="l" pos="2544840"/>
                <a:tab algn="l" pos="2900520"/>
                <a:tab algn="l" pos="3254400"/>
                <a:tab algn="l" pos="3608280"/>
                <a:tab algn="l" pos="3962520"/>
                <a:tab algn="l" pos="4317840"/>
                <a:tab algn="l" pos="4672080"/>
                <a:tab algn="l" pos="5025960"/>
                <a:tab algn="l" pos="5380200"/>
                <a:tab algn="l" pos="5735520"/>
                <a:tab algn="l" pos="6089760"/>
                <a:tab algn="l" pos="6443640"/>
                <a:tab algn="l" pos="6797520"/>
                <a:tab algn="l" pos="7153200"/>
                <a:tab algn="l" pos="7507440"/>
                <a:tab algn="l" pos="7854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2000" indent="-245880">
              <a:lnSpc>
                <a:spcPct val="93000"/>
              </a:lnSpc>
              <a:spcAft>
                <a:spcPts val="1137"/>
              </a:spcAft>
              <a:buClr>
                <a:srgbClr val="fb0007"/>
              </a:buClr>
              <a:buFont typeface="Courier New"/>
              <a:buChar char="■"/>
              <a:tabLst>
                <a:tab algn="l" pos="685800"/>
                <a:tab algn="l" pos="773280"/>
                <a:tab algn="l" pos="1127160"/>
                <a:tab algn="l" pos="1482840"/>
                <a:tab algn="l" pos="1836720"/>
                <a:tab algn="l" pos="2190600"/>
                <a:tab algn="l" pos="2544840"/>
                <a:tab algn="l" pos="2900520"/>
                <a:tab algn="l" pos="3254400"/>
                <a:tab algn="l" pos="3608280"/>
                <a:tab algn="l" pos="3962520"/>
                <a:tab algn="l" pos="4317840"/>
                <a:tab algn="l" pos="4672080"/>
                <a:tab algn="l" pos="5025960"/>
                <a:tab algn="l" pos="5380200"/>
                <a:tab algn="l" pos="5735520"/>
                <a:tab algn="l" pos="6089760"/>
                <a:tab algn="l" pos="6443640"/>
                <a:tab algn="l" pos="6797520"/>
                <a:tab algn="l" pos="7153200"/>
                <a:tab algn="l" pos="7507440"/>
                <a:tab algn="l" pos="7854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442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773280"/>
                <a:tab algn="l" pos="1127160"/>
                <a:tab algn="l" pos="1482840"/>
                <a:tab algn="l" pos="1836720"/>
                <a:tab algn="l" pos="2190600"/>
                <a:tab algn="l" pos="2544840"/>
                <a:tab algn="l" pos="2900520"/>
                <a:tab algn="l" pos="3254400"/>
                <a:tab algn="l" pos="3608280"/>
                <a:tab algn="l" pos="3962520"/>
                <a:tab algn="l" pos="4317840"/>
                <a:tab algn="l" pos="4672080"/>
                <a:tab algn="l" pos="5025960"/>
                <a:tab algn="l" pos="5380200"/>
                <a:tab algn="l" pos="5735520"/>
                <a:tab algn="l" pos="6089760"/>
                <a:tab algn="l" pos="6443640"/>
                <a:tab algn="l" pos="6797520"/>
                <a:tab algn="l" pos="7153200"/>
                <a:tab algn="l" pos="7507440"/>
                <a:tab algn="l" pos="7854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will study their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mea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how to 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 stat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side the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while-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loop-statements in Jav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provide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typ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loop-stat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 for-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he while-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he do-while-stateme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 of the break and continue statements on the for-statement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906560" y="1768320"/>
            <a:ext cx="626436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84240" y="196920"/>
            <a:ext cx="811368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53880"/>
                <a:tab algn="l" pos="708120"/>
                <a:tab algn="l" pos="1062000"/>
                <a:tab algn="l" pos="1417680"/>
                <a:tab algn="l" pos="1771560"/>
                <a:tab algn="l" pos="2125800"/>
                <a:tab algn="l" pos="2479680"/>
                <a:tab algn="l" pos="2835360"/>
                <a:tab algn="l" pos="3189240"/>
                <a:tab algn="l" pos="3543480"/>
                <a:tab algn="l" pos="3897360"/>
                <a:tab algn="l" pos="4253040"/>
                <a:tab algn="l" pos="4606920"/>
                <a:tab algn="l" pos="4960800"/>
                <a:tab algn="l" pos="5315040"/>
                <a:tab algn="l" pos="5670720"/>
                <a:tab algn="l" pos="6024600"/>
                <a:tab algn="l" pos="6378480"/>
                <a:tab algn="l" pos="6732720"/>
                <a:tab algn="l" pos="7088040"/>
                <a:tab algn="l" pos="7294680"/>
                <a:tab algn="l" pos="7854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tinue state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84240" y="2145960"/>
            <a:ext cx="8113680" cy="511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5800" indent="-442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85800"/>
                <a:tab algn="l" pos="773280"/>
                <a:tab algn="l" pos="1127160"/>
                <a:tab algn="l" pos="1482840"/>
                <a:tab algn="l" pos="1836720"/>
                <a:tab algn="l" pos="2190600"/>
                <a:tab algn="l" pos="2544840"/>
                <a:tab algn="l" pos="2900520"/>
                <a:tab algn="l" pos="3254400"/>
                <a:tab algn="l" pos="3608280"/>
                <a:tab algn="l" pos="3962520"/>
                <a:tab algn="l" pos="4317840"/>
                <a:tab algn="l" pos="4672080"/>
                <a:tab algn="l" pos="5025960"/>
                <a:tab algn="l" pos="5380200"/>
                <a:tab algn="l" pos="5735520"/>
                <a:tab algn="l" pos="6089760"/>
                <a:tab algn="l" pos="6443640"/>
                <a:tab algn="l" pos="6797520"/>
                <a:tab algn="l" pos="7153200"/>
                <a:tab algn="l" pos="7507440"/>
                <a:tab algn="l" pos="7854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85800"/>
                <a:tab algn="l" pos="773280"/>
                <a:tab algn="l" pos="1127160"/>
                <a:tab algn="l" pos="1482840"/>
                <a:tab algn="l" pos="1836720"/>
                <a:tab algn="l" pos="2190600"/>
                <a:tab algn="l" pos="2544840"/>
                <a:tab algn="l" pos="2900520"/>
                <a:tab algn="l" pos="3254400"/>
                <a:tab algn="l" pos="3608280"/>
                <a:tab algn="l" pos="3962520"/>
                <a:tab algn="l" pos="4317840"/>
                <a:tab algn="l" pos="4672080"/>
                <a:tab algn="l" pos="5025960"/>
                <a:tab algn="l" pos="5380200"/>
                <a:tab algn="l" pos="5735520"/>
                <a:tab algn="l" pos="6089760"/>
                <a:tab algn="l" pos="6443640"/>
                <a:tab algn="l" pos="6797520"/>
                <a:tab algn="l" pos="7153200"/>
                <a:tab algn="l" pos="7507440"/>
                <a:tab algn="l" pos="7854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continue;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85800"/>
                <a:tab algn="l" pos="773280"/>
                <a:tab algn="l" pos="1127160"/>
                <a:tab algn="l" pos="1482840"/>
                <a:tab algn="l" pos="1836720"/>
                <a:tab algn="l" pos="2190600"/>
                <a:tab algn="l" pos="2544840"/>
                <a:tab algn="l" pos="2900520"/>
                <a:tab algn="l" pos="3254400"/>
                <a:tab algn="l" pos="3608280"/>
                <a:tab algn="l" pos="3962520"/>
                <a:tab algn="l" pos="4317840"/>
                <a:tab algn="l" pos="4672080"/>
                <a:tab algn="l" pos="5025960"/>
                <a:tab algn="l" pos="5380200"/>
                <a:tab algn="l" pos="5735520"/>
                <a:tab algn="l" pos="6089760"/>
                <a:tab algn="l" pos="6443640"/>
                <a:tab algn="l" pos="6797520"/>
                <a:tab algn="l" pos="7153200"/>
                <a:tab algn="l" pos="7507440"/>
                <a:tab algn="l" pos="7854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442800">
              <a:lnSpc>
                <a:spcPct val="93000"/>
              </a:lnSpc>
              <a:spcBef>
                <a:spcPts val="924"/>
              </a:spcBef>
              <a:spcAft>
                <a:spcPts val="1426"/>
              </a:spcAft>
              <a:buClr>
                <a:srgbClr val="760003"/>
              </a:buClr>
              <a:buFont typeface="Times New Roman"/>
              <a:buChar char="◦"/>
              <a:tabLst>
                <a:tab algn="l" pos="685800"/>
                <a:tab algn="l" pos="773280"/>
                <a:tab algn="l" pos="1127160"/>
                <a:tab algn="l" pos="1482840"/>
                <a:tab algn="l" pos="1836720"/>
                <a:tab algn="l" pos="2190600"/>
                <a:tab algn="l" pos="2544840"/>
                <a:tab algn="l" pos="2900520"/>
                <a:tab algn="l" pos="3254400"/>
                <a:tab algn="l" pos="3608280"/>
                <a:tab algn="l" pos="3962520"/>
                <a:tab algn="l" pos="4317840"/>
                <a:tab algn="l" pos="4672080"/>
                <a:tab algn="l" pos="5025960"/>
                <a:tab algn="l" pos="5380200"/>
                <a:tab algn="l" pos="5735520"/>
                <a:tab algn="l" pos="6089760"/>
                <a:tab algn="l" pos="6443640"/>
                <a:tab algn="l" pos="6797520"/>
                <a:tab algn="l" pos="7153200"/>
                <a:tab algn="l" pos="7507440"/>
                <a:tab algn="l" pos="7854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continue 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side a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loop-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program will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skip 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1" i="1" lang="en-US" sz="2400" spc="-1" strike="noStrike">
                <a:solidFill>
                  <a:srgbClr val="760003"/>
                </a:solidFill>
                <a:latin typeface="Times New Roman"/>
                <a:ea typeface="Times New Roman"/>
              </a:rPr>
              <a:t>remainder</a:t>
            </a:r>
            <a:r>
              <a:rPr b="1" lang="en-US" sz="2400" spc="-1" strike="noStrike">
                <a:solidFill>
                  <a:srgbClr val="760003"/>
                </a:solidFill>
                <a:latin typeface="Times New Roman"/>
                <a:ea typeface="Times New Roman"/>
              </a:rPr>
              <a:t> of the loop-bod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he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end of the </a:t>
            </a:r>
            <a:r>
              <a:rPr b="1" i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loop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442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◦"/>
              <a:tabLst>
                <a:tab algn="l" pos="685800"/>
                <a:tab algn="l" pos="773280"/>
                <a:tab algn="l" pos="1127160"/>
                <a:tab algn="l" pos="1482840"/>
                <a:tab algn="l" pos="1836720"/>
                <a:tab algn="l" pos="2190600"/>
                <a:tab algn="l" pos="2544840"/>
                <a:tab algn="l" pos="2900520"/>
                <a:tab algn="l" pos="3254400"/>
                <a:tab algn="l" pos="3608280"/>
                <a:tab algn="l" pos="3962520"/>
                <a:tab algn="l" pos="4317840"/>
                <a:tab algn="l" pos="4672080"/>
                <a:tab algn="l" pos="5025960"/>
                <a:tab algn="l" pos="5380200"/>
                <a:tab algn="l" pos="5735520"/>
                <a:tab algn="l" pos="6089760"/>
                <a:tab algn="l" pos="6443640"/>
                <a:tab algn="l" pos="6797520"/>
                <a:tab algn="l" pos="7153200"/>
                <a:tab algn="l" pos="7507440"/>
                <a:tab algn="l" pos="7854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17680" indent="-246240">
              <a:lnSpc>
                <a:spcPct val="93000"/>
              </a:lnSpc>
              <a:spcAft>
                <a:spcPts val="850"/>
              </a:spcAft>
              <a:buClr>
                <a:srgbClr val="fb0007"/>
              </a:buClr>
              <a:buFont typeface="Times New Roman"/>
              <a:buChar char="■"/>
              <a:tabLst>
                <a:tab algn="l" pos="685800"/>
                <a:tab algn="l" pos="773280"/>
                <a:tab algn="l" pos="1127160"/>
                <a:tab algn="l" pos="1482840"/>
                <a:tab algn="l" pos="1836720"/>
                <a:tab algn="l" pos="2190600"/>
                <a:tab algn="l" pos="2544840"/>
                <a:tab algn="l" pos="2900520"/>
                <a:tab algn="l" pos="3254400"/>
                <a:tab algn="l" pos="3608280"/>
                <a:tab algn="l" pos="3962520"/>
                <a:tab algn="l" pos="4317840"/>
                <a:tab algn="l" pos="4672080"/>
                <a:tab algn="l" pos="5025960"/>
                <a:tab algn="l" pos="5380200"/>
                <a:tab algn="l" pos="5735520"/>
                <a:tab algn="l" pos="6089760"/>
                <a:tab algn="l" pos="6443640"/>
                <a:tab algn="l" pos="6797520"/>
                <a:tab algn="l" pos="7153200"/>
                <a:tab algn="l" pos="7507440"/>
                <a:tab algn="l" pos="7854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What happens n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h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end of a lo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s 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1" i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type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 of loop 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85800"/>
                <a:tab algn="l" pos="773280"/>
                <a:tab algn="l" pos="1127160"/>
                <a:tab algn="l" pos="1482840"/>
                <a:tab algn="l" pos="1836720"/>
                <a:tab algn="l" pos="2190600"/>
                <a:tab algn="l" pos="2544840"/>
                <a:tab algn="l" pos="2900520"/>
                <a:tab algn="l" pos="3254400"/>
                <a:tab algn="l" pos="3608280"/>
                <a:tab algn="l" pos="3962520"/>
                <a:tab algn="l" pos="4317840"/>
                <a:tab algn="l" pos="4672080"/>
                <a:tab algn="l" pos="5025960"/>
                <a:tab algn="l" pos="5380200"/>
                <a:tab algn="l" pos="5735520"/>
                <a:tab algn="l" pos="6089760"/>
                <a:tab algn="l" pos="6443640"/>
                <a:tab algn="l" pos="6797520"/>
                <a:tab algn="l" pos="7153200"/>
                <a:tab algn="l" pos="7507440"/>
                <a:tab algn="l" pos="7854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 of the break and continue statements on the for-statement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619280" y="1768320"/>
            <a:ext cx="6838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r-statement (1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r-statement is ideally suited for making the following type of progra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some variable x take o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series of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e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 each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ken on by a variable x, the body of the for-statement is execute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 ( for x = 1, 2, 3, .... 1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 this stateme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r-statement (2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30280" y="2286000"/>
            <a:ext cx="9070920" cy="27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w chart of a for-state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833480" y="1768320"/>
            <a:ext cx="641196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common way to use a for-statement (2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882720" y="1768320"/>
            <a:ext cx="831528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common way to use a for-statement (3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ts val="15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class For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ts val="15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ts val="15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static void main(String[] ar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ts val="15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ts val="15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ts val="15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ts val="15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( a = 1 ; a &lt;= 10 ; a = a + 1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ts val="15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ts val="15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a);    // Print 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ts val="15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ts val="15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ts val="15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"Done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ts val="15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ts val="15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common way to use a for-statement (1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r-statement was originally invented to let some variable take on a series of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( var =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RT_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  var &lt;=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OP_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 var = var +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C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*   for-body  (statements) 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ach of the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statements in the for-body are exec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chart of this program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923760" y="1768320"/>
            <a:ext cx="82314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5T15:18:16Z</dcterms:created>
  <dc:creator>Shuai Zheng</dc:creator>
  <dc:description/>
  <dc:language>en-US</dc:language>
  <cp:lastModifiedBy>chengzuo</cp:lastModifiedBy>
  <dcterms:modified xsi:type="dcterms:W3CDTF">2013-02-15T15:52:32Z</dcterms:modified>
  <cp:revision>52</cp:revision>
  <dc:subject/>
  <dc:title>幻灯片 1</dc:title>
</cp:coreProperties>
</file>