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A0931-F2FE-47F0-8E29-FE69A9A43C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816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1BD56-1BD7-49A2-B3D7-598344C88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08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4345560"/>
            <a:ext cx="401508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77AFD-8C7B-4F64-9129-1129FE7BC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24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4345560"/>
            <a:ext cx="264924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4345560"/>
            <a:ext cx="264924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97FE5-B928-40FB-A711-76935EF8D1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24A2B-CF20-4D7B-9C23-CB7F394DC6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5256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D3588-83B4-4D20-8B22-7C2577A1F8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5256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5256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108E-45CF-4ED4-B948-6A227E4F97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CCA21-9837-48FD-9611-DFF2E1778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8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7A948-CFDA-423B-AC84-0DF811548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5256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08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96455-B11D-4777-9FEC-2595282C5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5256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4345560"/>
            <a:ext cx="401508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E6127-69C4-4021-AC9F-8EA101543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816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62480-F002-495F-A817-015C05AAA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5256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5680" y="6392520"/>
            <a:ext cx="30492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D452CC-F441-4D45-B711-235EB6B30112}" type="slidenum"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The </a:t>
            </a:r>
            <a:r>
              <a:rPr b="0" lang="en-US" sz="4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str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 data type String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3062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How strings are stored inside the computer (3)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79480" y="1600200"/>
            <a:ext cx="73850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How strings are stored inside the computer (4)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08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he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location + sentin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Sentin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a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pecial charact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denotes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 Italic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 of a string.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the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NULL charac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th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Uni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 value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entine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ad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 Bold Italic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 Bold Italic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 character of the string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tring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tains: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 Italic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 charac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 string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How strings are stored inside the computer (5)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47880" y="1600200"/>
            <a:ext cx="72482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How strings are stored inside the computer (6)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08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location + 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 is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much more efficie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s the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location + 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 to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t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tring typed dat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Obtaining the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 Italic"/>
              </a:rPr>
              <a:t>length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 of strings in Java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e a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tring type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a.length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returns the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length of the       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tored in the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tring variable a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How strings are stored inside the computer (7)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508644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numb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 and </a:t>
            </a:r>
            <a:r>
              <a:rPr b="0" lang="en-US" sz="4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numeric string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08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Numeric 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s the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 Bold Italic"/>
              </a:rPr>
              <a:t>Uni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 encoding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!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use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 Italic"/>
              </a:rPr>
              <a:t>different representation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 Bold Italic"/>
              </a:rPr>
              <a:t>enco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 Italic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 techniq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681660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Converting </a:t>
            </a:r>
            <a:r>
              <a:rPr b="0" lang="en-US" sz="40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integer</a:t>
            </a: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 and </a:t>
            </a:r>
            <a:r>
              <a:rPr b="0" lang="en-US" sz="40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floating point</a:t>
            </a: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 values to </a:t>
            </a:r>
            <a:r>
              <a:rPr b="0" lang="en-US" sz="40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strings (2)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08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&lt;=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tring: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&lt;=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tring: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=&gt;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tring: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00560" y="1371600"/>
            <a:ext cx="3914640" cy="1438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657600" y="3200400"/>
            <a:ext cx="3552840" cy="1609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57600" y="5019840"/>
            <a:ext cx="3467160" cy="16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Converting </a:t>
            </a:r>
            <a:r>
              <a:rPr b="0" lang="en-US" sz="40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integer</a:t>
            </a: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 and </a:t>
            </a:r>
            <a:r>
              <a:rPr b="0" lang="en-US" sz="40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floating point</a:t>
            </a: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 values to </a:t>
            </a:r>
            <a:r>
              <a:rPr b="0" lang="en-US" sz="40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strings (3)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666880" y="2057400"/>
            <a:ext cx="42181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Operators on the String data type (1)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08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 Italic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one op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the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+ op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fined for the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tring data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tring1 + string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 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concaten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trin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tring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tring2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90920" y="3200400"/>
            <a:ext cx="404964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22536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The + operator on </a:t>
            </a:r>
            <a:r>
              <a:rPr b="0" lang="en-US" sz="40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number typed</a:t>
            </a: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 and </a:t>
            </a:r>
            <a:r>
              <a:rPr b="0" lang="en-US" sz="40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String typed</a:t>
            </a: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 data (1)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08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rovides an 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 Bold"/>
              </a:rPr>
              <a:t>automatic con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 fea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hen the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+ op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used between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 Bold Italic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 Italic"/>
              </a:rPr>
              <a:t> typ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 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 a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 Bold Italic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 Italic"/>
              </a:rPr>
              <a:t> typ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 dat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 Italic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 Italic"/>
              </a:rPr>
              <a:t>automatic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 conver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a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+ op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then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appli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n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2 str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i.e., the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+ op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concate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!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(1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9000"/>
          </a:bodyPr>
          <a:p>
            <a:pPr marL="37692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ata type is the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first data ty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we learn that is 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 Bold Italic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 built-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to the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programming language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76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76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76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76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76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76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76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tring data ty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 Bold Italic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is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construc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ing the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char data ty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76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The 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 Bold Italic"/>
              </a:rPr>
              <a:t>inform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tring data 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stored using a number of 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yped variabl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76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he 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 Bold Italic"/>
              </a:rPr>
              <a:t>oper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n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tring data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implemented by a number of 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 (= computer programs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05320" y="2362320"/>
            <a:ext cx="2400120" cy="18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1916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The + operator on </a:t>
            </a:r>
            <a:r>
              <a:rPr b="0" lang="en-US" sz="40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number typed</a:t>
            </a: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 and </a:t>
            </a:r>
            <a:r>
              <a:rPr b="0" lang="en-US" sz="40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String typed</a:t>
            </a: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 data (2)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666880" y="2438280"/>
            <a:ext cx="42973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Reading a string from the keyboard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355760" y="1600200"/>
            <a:ext cx="6432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Other operations on String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552600" indent="-513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charAt(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turn the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charac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t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position 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e string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552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552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552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552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552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2.    substring(i, j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turn the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ub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sisting of the characters between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positions i and j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e string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8120" y="2209680"/>
            <a:ext cx="2914560" cy="1447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038400" y="5257800"/>
            <a:ext cx="2905200" cy="13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08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equence of charac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enclosed between the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double quo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 "...“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 charac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a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of the type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 uses the 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 Bold"/>
              </a:rPr>
              <a:t>Uni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s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encoding metho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3014640" cy="10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tring literals (1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08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write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tring liter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etween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double quo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 "...“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Escape charac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a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pecial charac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allow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 Bold Italic"/>
              </a:rPr>
              <a:t>change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 Bold"/>
              </a:rPr>
              <a:t> the mea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 Bold Italic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 charact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\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 (backslash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the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 Italic"/>
              </a:rPr>
              <a:t>esca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 charac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or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tring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tring literals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08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Escape sequ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the 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 Bold"/>
              </a:rPr>
              <a:t>escape character \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ollowed by 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 Bold"/>
              </a:rPr>
              <a:t>one charact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charac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enoted by an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escape sequ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usually one that you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cannot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 in with the keyboar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7920" y="3733920"/>
            <a:ext cx="66085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Defining String typed variables (1)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08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ynt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def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tring typed vari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nounces the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variable definition clause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NameOfVaria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n 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identifi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hich is the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name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variable.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variable definition clau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 Bold Italic"/>
              </a:rPr>
              <a:t>mu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 be end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th a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emi-colon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";"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tring typed varia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an store the 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location (address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a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 Bold Italic"/>
              </a:rPr>
              <a:t>sequen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 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characte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 (string)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19520" y="2666880"/>
            <a:ext cx="3565440" cy="7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Defining String typed variables (2)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448164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How strings are stored inside the computer (1)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08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Challe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tr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ave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variable length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you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tore a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a 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 Bold"/>
              </a:rPr>
              <a:t>fixed sized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techniq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Computer Sc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or storing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tr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The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location + 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he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location + sentin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How strings are stored inside the computer (2)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The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location + 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charact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 of 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to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using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Uni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encoding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 Bold Italic"/>
              </a:rPr>
              <a:t>some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 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consecutive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side the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RAM memor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string var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tains: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lo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 Bold Italic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 Bold"/>
              </a:rPr>
              <a:t> charac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 string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 Bold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 string (total number of characters in the string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engzuo</dc:creator>
  <dc:description/>
  <dc:language>en-US</dc:language>
  <cp:lastModifiedBy/>
  <cp:revision>0</cp:revision>
  <dc:subject/>
  <dc:title>The string data type String</dc:title>
</cp:coreProperties>
</file>