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ACF-02B6-450F-A00B-C065BEB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7AF-A369-4FAD-B161-B54213C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526-F0ED-4E5A-8FE9-BDBBCAC8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A37-763C-4D7D-A44E-6CFDD020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D2C-8F96-4030-B935-47D06145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4E6-F862-4158-A293-1A3C23D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93F-907B-4EE0-A7F3-2C738E5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207-558F-4454-8179-34B73B3B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ADD-4712-4EB3-A203-6CB0CC5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409-5428-4AE9-BB20-ADCD523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855-9350-4DFA-B672-C3C7364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876-FCAF-4876-9CC3-C5498BE5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2DE-E3CF-426C-8861-C35A000CFA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Introduction to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!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hould have the following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parameter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lso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QQ截图20121205101631.png"/>
          <p:cNvPicPr/>
          <p:nvPr/>
        </p:nvPicPr>
        <p:blipFill>
          <a:blip r:embed="rId1"/>
          <a:stretch/>
        </p:blipFill>
        <p:spPr>
          <a:xfrm>
            <a:off x="3124080" y="2590920"/>
            <a:ext cx="29433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!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o we use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o w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olv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we use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(n−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will nee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ba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3" descr="QQ截图20121205102001.png"/>
          <p:cNvPicPr/>
          <p:nvPr/>
        </p:nvPicPr>
        <p:blipFill>
          <a:blip r:embed="rId1"/>
          <a:stretch/>
        </p:blipFill>
        <p:spPr>
          <a:xfrm>
            <a:off x="3200400" y="2362320"/>
            <a:ext cx="2800440" cy="571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QQ截图20121205102018.png"/>
          <p:cNvPicPr/>
          <p:nvPr/>
        </p:nvPicPr>
        <p:blipFill>
          <a:blip r:embed="rId2"/>
          <a:stretch/>
        </p:blipFill>
        <p:spPr>
          <a:xfrm>
            <a:off x="3124080" y="3886200"/>
            <a:ext cx="292428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" descr="QQ截图20121205102032.png"/>
          <p:cNvPicPr/>
          <p:nvPr/>
        </p:nvPicPr>
        <p:blipFill>
          <a:blip r:embed="rId3"/>
          <a:stretch/>
        </p:blipFill>
        <p:spPr>
          <a:xfrm>
            <a:off x="3581280" y="5715000"/>
            <a:ext cx="2286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!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内容占位符 5" descr="QQ截图20121205102230.png"/>
          <p:cNvPicPr/>
          <p:nvPr/>
        </p:nvPicPr>
        <p:blipFill>
          <a:blip r:embed="rId1"/>
          <a:stretch/>
        </p:blipFill>
        <p:spPr>
          <a:xfrm>
            <a:off x="1974960" y="1600200"/>
            <a:ext cx="51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recurs01.gif"/>
          <p:cNvPicPr/>
          <p:nvPr/>
        </p:nvPicPr>
        <p:blipFill>
          <a:blip r:embed="rId1"/>
          <a:stretch/>
        </p:blipFill>
        <p:spPr>
          <a:xfrm>
            <a:off x="1023840" y="1811160"/>
            <a:ext cx="7096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sive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urs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defined wit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numb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3" descr="QQ截图20121205094257.png"/>
          <p:cNvPicPr/>
          <p:nvPr/>
        </p:nvPicPr>
        <p:blipFill>
          <a:blip r:embed="rId1"/>
          <a:stretch/>
        </p:blipFill>
        <p:spPr>
          <a:xfrm>
            <a:off x="3505320" y="4114800"/>
            <a:ext cx="23716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you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e.g., someone told you) th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we can solv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as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3" descr="QQ截图20121205094451.png"/>
          <p:cNvPicPr/>
          <p:nvPr/>
        </p:nvPicPr>
        <p:blipFill>
          <a:blip r:embed="rId1"/>
          <a:stretch/>
        </p:blipFill>
        <p:spPr>
          <a:xfrm>
            <a:off x="3581280" y="2743200"/>
            <a:ext cx="1828800" cy="5526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QQ截图20121205094516.png"/>
          <p:cNvPicPr/>
          <p:nvPr/>
        </p:nvPicPr>
        <p:blipFill>
          <a:blip r:embed="rId2"/>
          <a:stretch/>
        </p:blipFill>
        <p:spPr>
          <a:xfrm>
            <a:off x="3124080" y="4876920"/>
            <a:ext cx="28386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v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−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−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(simple)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ial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 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ial(n−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maller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to solv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ne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s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(simple) c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al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3" descr="QQ截图20121205095420.png"/>
          <p:cNvPicPr/>
          <p:nvPr/>
        </p:nvPicPr>
        <p:blipFill>
          <a:blip r:embed="rId1"/>
          <a:stretch/>
        </p:blipFill>
        <p:spPr>
          <a:xfrm>
            <a:off x="3429000" y="5334120"/>
            <a:ext cx="22953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qu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 solving tech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one 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olv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−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−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.., you will the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s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resulting method will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ok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ll these kind 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" descr="QQ截图20121205100954.png"/>
          <p:cNvPicPr/>
          <p:nvPr/>
        </p:nvPicPr>
        <p:blipFill>
          <a:blip r:embed="rId1"/>
          <a:stretch/>
        </p:blipFill>
        <p:spPr>
          <a:xfrm>
            <a:off x="1981080" y="4191120"/>
            <a:ext cx="5505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to develop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 solving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 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you need to use to solv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 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ve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g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33:52Z</dcterms:created>
  <dc:creator>chengzuo</dc:creator>
  <dc:description/>
  <dc:language>en-US</dc:language>
  <cp:lastModifiedBy>chengzuo</cp:lastModifiedBy>
  <dcterms:modified xsi:type="dcterms:W3CDTF">2012-12-05T15:25:32Z</dcterms:modified>
  <cp:revision>45</cp:revision>
  <dc:subject/>
  <dc:title>Introduction to Recursion</dc:title>
</cp:coreProperties>
</file>