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BE89-DF49-4351-B77E-81A483DDFD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3D5C3-5467-4CAF-A88B-C569E311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C68D8-D7C2-4A48-B769-EF437751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C1CB7-59C3-40D3-BF56-FB6A99BB42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63DD9-6301-45BC-95F0-B0FAA1AA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5B7ED-BDA6-4F6F-8ECA-E0067518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97C0F-A473-4EA7-81C7-8C9F78D4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011E7-011E-4525-8DA3-24F781AC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642E-2CAB-4C40-B152-4FB6EF2B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37059-28D4-43C4-8265-5BF9DCA5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EABD8-9888-4D50-A70B-60E5860B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A3C1E-346E-4FFF-A198-AC2A6C56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4FA09E-0B20-474C-BB5C-2916B30B19B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ata type ch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and in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riable is an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ger typed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pressio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A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n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= 65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71800" y="3200400"/>
            <a:ext cx="3295800" cy="24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and int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hough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ype is a kind of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ger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is treated differently when we want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see" the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e.g., prin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coding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d 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printing a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yped integer, th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s will use the 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Unicode 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print the corresponding charac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printing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ki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s, th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s will use the 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inary number enco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ing char to int: Operations on the char data type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perations 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d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ed to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rom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52480" y="3092400"/>
            <a:ext cx="5799240" cy="34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ing char to int: Operations on the char data typ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695680" y="2149560"/>
            <a:ext cx="3751200" cy="3425760"/>
            <a:chOff x="2695680" y="2149560"/>
            <a:chExt cx="3751200" cy="34257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2695680" y="2149560"/>
              <a:ext cx="3751200" cy="34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695680" y="2149560"/>
              <a:ext cx="3751200" cy="34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ing char to int: Operations on the char data type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590920" y="2438280"/>
            <a:ext cx="4281480" cy="2665440"/>
            <a:chOff x="2590920" y="2438280"/>
            <a:chExt cx="4281480" cy="266544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2590920" y="2438280"/>
              <a:ext cx="428148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590920" y="2438280"/>
              <a:ext cx="4281480" cy="26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ing other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typ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 cha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ways unsa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convert any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clude some 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egati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values of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ly contain 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ositi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including 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cha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kind of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lue to a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yped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82600" y="3114720"/>
            <a:ext cx="658980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ing other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typ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 cha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895480" y="2362320"/>
            <a:ext cx="3332160" cy="2636640"/>
            <a:chOff x="2895480" y="2362320"/>
            <a:chExt cx="3332160" cy="263664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2895480" y="2362320"/>
              <a:ext cx="3332160" cy="26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895480" y="2362320"/>
              <a:ext cx="3332160" cy="26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ing other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typ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 char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e)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ing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i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a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ter 'b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697068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 for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case and upper ca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etect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case let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etect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case let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29000" y="2438280"/>
            <a:ext cx="2228760" cy="5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429000" y="4114800"/>
            <a:ext cx="2266920" cy="5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-114480"/>
            <a:ext cx="8229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ing a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ca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haracter into the sam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ca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haracte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 code for 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c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let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case let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y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tracting 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rom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4124160" cy="32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type ch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used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pha-numeric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formation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sid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by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memory to stor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-114480"/>
            <a:ext cx="8229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ing a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ca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haracter into the sam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ca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haracte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971800" y="2971800"/>
            <a:ext cx="3179880" cy="3265560"/>
            <a:chOff x="2971800" y="2971800"/>
            <a:chExt cx="3179880" cy="326556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971800" y="2971800"/>
              <a:ext cx="3179880" cy="32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971800" y="2971800"/>
              <a:ext cx="3179880" cy="32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581280" y="1905120"/>
            <a:ext cx="1876680" cy="81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vide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or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68580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II code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lu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 --- 1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Uni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called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CI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 Standard Code for Information Interchange (ASCI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de was designed to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s in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glis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lpha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II cod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041480" y="1600200"/>
            <a:ext cx="7059600" cy="4524480"/>
            <a:chOff x="1041480" y="1600200"/>
            <a:chExt cx="7059600" cy="452448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041480" y="1600200"/>
              <a:ext cx="7059600" cy="45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041480" y="1600200"/>
              <a:ext cx="7059600" cy="45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character typed variable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yped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nounces the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 definition 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Of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n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dentifi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hich is th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definition cla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e end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th a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mi-colon ";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 typed 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 store th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hara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284508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lit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lit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etwee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es '...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515160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character typed variable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666880" y="2362320"/>
            <a:ext cx="3883320" cy="2360520"/>
            <a:chOff x="2666880" y="2362320"/>
            <a:chExt cx="3883320" cy="236052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2666880" y="2362320"/>
              <a:ext cx="388332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666880" y="2362320"/>
              <a:ext cx="3883320" cy="23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and int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 typed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tains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itiv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: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 data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data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 data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values 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 data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: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0 .. 6553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4:37:23Z</dcterms:created>
  <dc:creator>chengzuo</dc:creator>
  <dc:description/>
  <dc:language>en-US</dc:language>
  <cp:lastModifiedBy>chengzuo</cp:lastModifiedBy>
  <dcterms:modified xsi:type="dcterms:W3CDTF">2013-02-04T16:35:55Z</dcterms:modified>
  <cp:revision>88</cp:revision>
  <dc:subject/>
  <dc:title>The character data type char</dc:title>
</cp:coreProperties>
</file>