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tion to Method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Example Code(3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e"/>
              </a:solidFill>
              <a:latin typeface="Courier New"/>
              <a:ea typeface="宋体"/>
            </a:endParaRPr>
          </a:p>
        </p:txBody>
      </p:sp>
      <p:pic>
        <p:nvPicPr>
          <p:cNvPr id="548" name="图片 3" descr="QQ截图20121019130328.bmp"/>
          <p:cNvPicPr/>
          <p:nvPr/>
        </p:nvPicPr>
        <p:blipFill>
          <a:blip r:embed="rId1"/>
          <a:stretch/>
        </p:blipFill>
        <p:spPr>
          <a:xfrm>
            <a:off x="4597560" y="3200400"/>
            <a:ext cx="412416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Example Code(4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n-savv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wants to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ToolBox.m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宋体"/>
              </a:rPr>
              <a:t>does </a:t>
            </a:r>
            <a:r>
              <a:rPr b="1" i="1" lang="en-US" sz="2400" spc="-1" strike="noStrike">
                <a:solidFill>
                  <a:srgbClr val="760003"/>
                </a:solidFill>
                <a:latin typeface="Times New Roman"/>
                <a:ea typeface="宋体"/>
              </a:rPr>
              <a:t>not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宋体"/>
              </a:rPr>
              <a:t> need to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ntained inside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method ToolBox.m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n-savv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only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 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know the following in order to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us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th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mplete)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: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ox.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W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metho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do the 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: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method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: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Effect of a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return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used to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terminate the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ecutes a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return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method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termina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t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location where the method was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call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a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return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turns an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 the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valu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(= resul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be used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t the point of cal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in a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 invo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 (1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14680" y="2184480"/>
            <a:ext cx="956304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in a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 invo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 (2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2057400" y="2311560"/>
            <a:ext cx="8889840" cy="66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in a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 invo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 (3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2082960" y="2044800"/>
            <a:ext cx="8839080" cy="66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in a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 invo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 (4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2095560" y="2120760"/>
            <a:ext cx="8813880" cy="664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Defining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 a (</a:t>
            </a: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class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) method (1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6" name="内容占位符 3" descr="QQ截图20121019131036.bmp"/>
          <p:cNvPicPr/>
          <p:nvPr/>
        </p:nvPicPr>
        <p:blipFill>
          <a:blip r:embed="rId1"/>
          <a:stretch/>
        </p:blipFill>
        <p:spPr>
          <a:xfrm>
            <a:off x="2540160" y="3048120"/>
            <a:ext cx="864864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Defining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 a (</a:t>
            </a: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class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) method (2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内容占位符 3" descr="QQ截图20121019131547.bmp"/>
          <p:cNvPicPr/>
          <p:nvPr/>
        </p:nvPicPr>
        <p:blipFill>
          <a:blip r:embed="rId1"/>
          <a:stretch/>
        </p:blipFill>
        <p:spPr>
          <a:xfrm>
            <a:off x="2006640" y="3352680"/>
            <a:ext cx="924228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Defining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 a (</a:t>
            </a: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class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) method (3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0" name="内容占位符 3" descr="QQ截图20121019132000.bmp"/>
          <p:cNvPicPr/>
          <p:nvPr/>
        </p:nvPicPr>
        <p:blipFill>
          <a:blip r:embed="rId1"/>
          <a:stretch/>
        </p:blipFill>
        <p:spPr>
          <a:xfrm>
            <a:off x="2668680" y="3011400"/>
            <a:ext cx="76676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Example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800280" y="2222640"/>
            <a:ext cx="11594880" cy="57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Multiple methods with the </a:t>
            </a: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same 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name in the same class (1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you use/invoke 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in your Java program,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compi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ll use the following information to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which method you want to us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etho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(i.e.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Name.Meth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and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of 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that you specify in the method invocatio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Multiple methods with the </a:t>
            </a:r>
            <a:r>
              <a:rPr b="1" i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same </a:t>
            </a:r>
            <a:r>
              <a:rPr b="1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name in the same class (2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内容占位符 3" descr="QQ截图20121019132321.bmp"/>
          <p:cNvPicPr/>
          <p:nvPr/>
        </p:nvPicPr>
        <p:blipFill>
          <a:blip r:embed="rId1"/>
          <a:stretch/>
        </p:blipFill>
        <p:spPr>
          <a:xfrm>
            <a:off x="4749840" y="2768760"/>
            <a:ext cx="3668760" cy="69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Defining the min method inside the </a:t>
            </a:r>
            <a:r>
              <a:rPr b="1" i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same</a:t>
            </a: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 class as the main metho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6" name="内容占位符 5" descr="QQ截图20121019132538.bmp"/>
          <p:cNvPicPr/>
          <p:nvPr/>
        </p:nvPicPr>
        <p:blipFill>
          <a:blip r:embed="rId1"/>
          <a:stretch/>
        </p:blipFill>
        <p:spPr>
          <a:xfrm>
            <a:off x="3759120" y="2362320"/>
            <a:ext cx="5727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A </a:t>
            </a:r>
            <a:r>
              <a:rPr b="1" i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short hand</a:t>
            </a: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 for invoking a method defined inside the </a:t>
            </a:r>
            <a:r>
              <a:rPr b="1" i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same</a:t>
            </a: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宋体"/>
              </a:rPr>
              <a:t> clas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8" name="内容占位符 3" descr="QQ截图20121019132631.bmp"/>
          <p:cNvPicPr/>
          <p:nvPr/>
        </p:nvPicPr>
        <p:blipFill>
          <a:blip r:embed="rId1"/>
          <a:stretch/>
        </p:blipFill>
        <p:spPr>
          <a:xfrm>
            <a:off x="4216320" y="2514600"/>
            <a:ext cx="5029200" cy="69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Java Method </a:t>
            </a:r>
            <a:r>
              <a:rPr b="0" lang="zh-CN" sz="5000" spc="-1" strike="noStrike">
                <a:solidFill>
                  <a:srgbClr val="000000"/>
                </a:solidFill>
                <a:latin typeface="Gill Sans"/>
                <a:ea typeface="宋体"/>
              </a:rPr>
              <a:t>（</a:t>
            </a: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1</a:t>
            </a:r>
            <a:r>
              <a:rPr b="0" lang="zh-CN" sz="5000" spc="-1" strike="noStrike">
                <a:solidFill>
                  <a:srgbClr val="000000"/>
                </a:solidFill>
                <a:latin typeface="Gill Sans"/>
                <a:ea typeface="宋体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4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60078"/>
                </a:solidFill>
                <a:latin typeface="Times New Roman"/>
                <a:ea typeface="宋体"/>
              </a:rPr>
              <a:t>The 2 types (kinds) of methods in Jav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 method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Instance method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d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work than </a:t>
            </a:r>
            <a:r>
              <a:rPr b="0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state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state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n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mplish a </a:t>
            </a:r>
            <a:r>
              <a:rPr b="1" i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very small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 amou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work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contains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multiple statements.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Java Method </a:t>
            </a:r>
            <a:r>
              <a:rPr b="0" lang="zh-CN" sz="5000" spc="-1" strike="noStrike">
                <a:solidFill>
                  <a:srgbClr val="000000"/>
                </a:solidFill>
                <a:latin typeface="Gill Sans"/>
                <a:ea typeface="宋体"/>
              </a:rPr>
              <a:t>（</a:t>
            </a: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Gill Sans"/>
                <a:ea typeface="宋体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871280" cy="637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25160" indent="-295200">
              <a:lnSpc>
                <a:spcPct val="100000"/>
              </a:lnSpc>
              <a:spcBef>
                <a:spcPts val="2401"/>
              </a:spcBef>
              <a:buClr>
                <a:srgbClr val="0000fe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allows us to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build u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1" lang="en-US" sz="3000" spc="-1" strike="noStrike">
                <a:solidFill>
                  <a:srgbClr val="760078"/>
                </a:solidFill>
                <a:latin typeface="Times New Roman"/>
                <a:ea typeface="宋体"/>
              </a:rPr>
              <a:t>library of useful tool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251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You 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define (describe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o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251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war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, you can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executed (invoked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as many times as you want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2754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25160" indent="-295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fore, we can build up a 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libr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problem solving method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251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</a:t>
            </a:r>
            <a:r>
              <a:rPr b="1" lang="en-US" sz="3000" spc="-1" strike="noStrike">
                <a:solidFill>
                  <a:srgbClr val="0000fe"/>
                </a:solidFill>
                <a:latin typeface="Courier New"/>
                <a:ea typeface="宋体"/>
              </a:rPr>
              <a:t>Math.sin(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3000" spc="-1" strike="noStrike">
                <a:solidFill>
                  <a:srgbClr val="0000fe"/>
                </a:solidFill>
                <a:latin typeface="Courier New"/>
                <a:ea typeface="宋体"/>
              </a:rPr>
              <a:t>Math.sqrt(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3000" spc="-1" strike="noStrike">
                <a:solidFill>
                  <a:srgbClr val="0000fe"/>
                </a:solidFill>
                <a:latin typeface="Courier New"/>
                <a:ea typeface="宋体"/>
              </a:rPr>
              <a:t>Scann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methods for input, etc.</a:t>
            </a:r>
            <a:br>
              <a:rPr sz="3000"/>
            </a:br>
            <a:br>
              <a:rPr sz="2400"/>
            </a:br>
            <a:br>
              <a:rPr sz="2400"/>
            </a:b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Java Method </a:t>
            </a:r>
            <a:r>
              <a:rPr b="0" lang="zh-CN" sz="5000" spc="-1" strike="noStrike">
                <a:solidFill>
                  <a:srgbClr val="000000"/>
                </a:solidFill>
                <a:latin typeface="Gill Sans"/>
                <a:ea typeface="宋体"/>
              </a:rPr>
              <a:t>（</a:t>
            </a: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3</a:t>
            </a:r>
            <a:r>
              <a:rPr b="0" lang="zh-CN" sz="5000" spc="-1" strike="noStrike">
                <a:solidFill>
                  <a:srgbClr val="000000"/>
                </a:solidFill>
                <a:latin typeface="Gill Sans"/>
                <a:ea typeface="宋体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-50760">
              <a:lnSpc>
                <a:spcPct val="100000"/>
              </a:lnSpc>
              <a:spcBef>
                <a:spcPts val="2401"/>
              </a:spcBef>
              <a:buClr>
                <a:srgbClr val="0000fe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allows us to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solves a complex proble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th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divide and conqu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methodolog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50760">
              <a:lnSpc>
                <a:spcPct val="100000"/>
              </a:lnSpc>
              <a:spcBef>
                <a:spcPts val="2401"/>
              </a:spcBef>
              <a:buClr>
                <a:srgbClr val="0000fe"/>
              </a:buClr>
              <a:buSzPct val="171000"/>
              <a:buFont typeface="Times"/>
              <a:buChar char="•"/>
              <a:tabLst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divide and conqu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760003"/>
                </a:solidFill>
                <a:latin typeface="Times New Roman"/>
                <a:ea typeface="宋体"/>
              </a:rPr>
              <a:t>problem solving techniq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. we break a 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complex problem/tas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into a </a:t>
            </a:r>
            <a:r>
              <a:rPr b="1" i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number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 of smaller problems/task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10540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</a:t>
            </a:r>
            <a:r>
              <a:rPr b="1" lang="en-US" sz="3000" spc="-1" strike="noStrike">
                <a:solidFill>
                  <a:srgbClr val="fb0007"/>
                </a:solidFill>
                <a:latin typeface="Times New Roman"/>
                <a:ea typeface="宋体"/>
              </a:rPr>
              <a:t>smaller problem/tas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hen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solv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</a:t>
            </a:r>
            <a:r>
              <a:rPr b="1" i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one</a:t>
            </a:r>
            <a:r>
              <a:rPr b="1" lang="en-US" sz="3000" spc="-1" strike="noStrike">
                <a:solidFill>
                  <a:srgbClr val="0000fe"/>
                </a:solidFill>
                <a:latin typeface="Times New Roman"/>
                <a:ea typeface="宋体"/>
              </a:rPr>
              <a:t> meth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teps in using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Java program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fe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you must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define a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Write 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steps (= statemen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ntain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Att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eps (= statement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eed to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 method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o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emember tha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you must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define th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om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teps in using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Java program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defining th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you can then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call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 a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the </a:t>
            </a:r>
            <a:r>
              <a:rPr b="1" i="1" lang="en-US" sz="2400" spc="-1" strike="noStrike">
                <a:solidFill>
                  <a:srgbClr val="760003"/>
                </a:solidFill>
                <a:latin typeface="Times New Roman"/>
                <a:ea typeface="宋体"/>
              </a:rPr>
              <a:t>name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宋体"/>
              </a:rPr>
              <a:t> of the metho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◦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ca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side the corresponding method ar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execu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"/>
              <a:buChar char="◦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method has been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res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 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 ca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chan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called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method inv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an older term is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procedure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an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 method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as many times as you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Example Code(1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44160" y="14475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previ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en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find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宋体"/>
              </a:rPr>
              <a:t>sm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2 values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宋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图片 3" descr="QQ截图20121019130052.bmp"/>
          <p:cNvPicPr/>
          <p:nvPr/>
        </p:nvPicPr>
        <p:blipFill>
          <a:blip r:embed="rId1"/>
          <a:stretch/>
        </p:blipFill>
        <p:spPr>
          <a:xfrm>
            <a:off x="4216320" y="4495680"/>
            <a:ext cx="4637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  <a:ea typeface="宋体"/>
              </a:rPr>
              <a:t>Example Code(2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  <p:pic>
        <p:nvPicPr>
          <p:cNvPr id="545" name="图片 3" descr="QQ截图20121019130224.bmp"/>
          <p:cNvPicPr/>
          <p:nvPr/>
        </p:nvPicPr>
        <p:blipFill>
          <a:blip r:embed="rId1"/>
          <a:stretch/>
        </p:blipFill>
        <p:spPr>
          <a:xfrm>
            <a:off x="3987720" y="2743200"/>
            <a:ext cx="5308560" cy="579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ngzuo</dc:creator>
  <dc:description/>
  <dc:language>en-US</dc:language>
  <cp:lastModifiedBy>chengzuo</cp:lastModifiedBy>
  <dcterms:modified xsi:type="dcterms:W3CDTF">2013-02-27T04:55:09Z</dcterms:modified>
  <cp:revision>59</cp:revision>
  <dc:subject/>
  <dc:title>Introduction to Method</dc:title>
</cp:coreProperties>
</file>