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27E1-D19E-49BA-8D80-5BBE10B38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E50D-5551-4172-ADBC-2521D1AB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1D4C-2448-475D-9E90-B43DDB1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E2B0-0616-49FE-801F-0006E6FE5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36C1-0811-4787-9CFE-0A63DCB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C043-FBCD-44A2-822A-1003BBFE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18EA-7725-4BF9-8790-C61AD524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1EAA-FEDA-4A45-81D2-8E482B12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73F1-0F67-44BD-9DFF-FBB2CC39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7D04-2B8A-4E2E-BCD4-9401463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2B8E-6574-4B4F-94C2-C5CD0401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FADF-B6EF-488D-A0A5-37D10292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C736F-C5B9-48BF-956F-E87B07B020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Array and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92280" y="1600200"/>
            <a:ext cx="5956200" cy="4522680"/>
            <a:chOff x="1592280" y="1600200"/>
            <a:chExt cx="5956200" cy="452268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592280" y="1600200"/>
              <a:ext cx="595620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592280" y="1600200"/>
              <a:ext cx="595620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774800" y="1600200"/>
            <a:ext cx="5591160" cy="4522680"/>
            <a:chOff x="1774800" y="1600200"/>
            <a:chExt cx="5591160" cy="45226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774800" y="1600200"/>
              <a:ext cx="559116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774800" y="1600200"/>
              <a:ext cx="559116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85880" y="1600200"/>
            <a:ext cx="5769000" cy="4522680"/>
            <a:chOff x="1685880" y="1600200"/>
            <a:chExt cx="5769000" cy="4522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685880" y="1600200"/>
              <a:ext cx="576900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685880" y="1600200"/>
              <a:ext cx="576900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41320" y="1600200"/>
            <a:ext cx="5658120" cy="4522680"/>
            <a:chOff x="1741320" y="1600200"/>
            <a:chExt cx="5658120" cy="45226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41320" y="1600200"/>
              <a:ext cx="565812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41320" y="1600200"/>
              <a:ext cx="565812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81280" y="1600200"/>
            <a:ext cx="5578200" cy="4522680"/>
            <a:chOff x="1781280" y="1600200"/>
            <a:chExt cx="5578200" cy="45226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781280" y="1600200"/>
              <a:ext cx="557820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781280" y="1600200"/>
              <a:ext cx="557820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88960" y="1600200"/>
            <a:ext cx="6162840" cy="4522680"/>
            <a:chOff x="1488960" y="1600200"/>
            <a:chExt cx="6162840" cy="45226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488960" y="1600200"/>
              <a:ext cx="616284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488960" y="1600200"/>
              <a:ext cx="616284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66920" y="1600200"/>
            <a:ext cx="6406920" cy="4522680"/>
            <a:chOff x="1366920" y="1600200"/>
            <a:chExt cx="6406920" cy="4522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366920" y="1600200"/>
              <a:ext cx="640692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366920" y="1600200"/>
              <a:ext cx="640692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447920"/>
            <a:ext cx="4119840" cy="4522680"/>
            <a:chOff x="380880" y="1447920"/>
            <a:chExt cx="4119840" cy="45226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380880" y="1447920"/>
              <a:ext cx="411984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0880" y="1447920"/>
              <a:ext cx="411984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41446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04920" y="1811160"/>
            <a:ext cx="6730920" cy="4102200"/>
            <a:chOff x="1204920" y="1811160"/>
            <a:chExt cx="6730920" cy="41022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204920" y="1811160"/>
              <a:ext cx="6730920" cy="41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204920" y="1811160"/>
              <a:ext cx="6730920" cy="41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7600" y="1852560"/>
            <a:ext cx="7045560" cy="4016520"/>
            <a:chOff x="1047600" y="1852560"/>
            <a:chExt cx="7045560" cy="40165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047600" y="1852560"/>
              <a:ext cx="7045560" cy="40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047600" y="1852560"/>
              <a:ext cx="7045560" cy="40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valu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n arr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333520" y="1639800"/>
            <a:ext cx="4473720" cy="4443480"/>
            <a:chOff x="2333520" y="1639800"/>
            <a:chExt cx="4473720" cy="44434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333520" y="1639800"/>
              <a:ext cx="447372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33520" y="1639800"/>
              <a:ext cx="4473720" cy="44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28880" y="1830240"/>
            <a:ext cx="7083360" cy="4064040"/>
            <a:chOff x="1028880" y="1830240"/>
            <a:chExt cx="7083360" cy="40640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28880" y="1830240"/>
              <a:ext cx="7083360" cy="40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028880" y="1830240"/>
              <a:ext cx="708336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 array as return value in a method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ig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Name = callSomeMethod( parame1, param2, ... 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men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inv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 array as return value in a method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14600" y="1828800"/>
            <a:ext cx="4743360" cy="4522680"/>
            <a:chOff x="2514600" y="1828800"/>
            <a:chExt cx="4743360" cy="45226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2514600" y="1828800"/>
              <a:ext cx="474336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514600" y="1828800"/>
              <a:ext cx="474336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 that returns an array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81080" y="2209680"/>
            <a:ext cx="5664240" cy="2968920"/>
            <a:chOff x="1981080" y="2209680"/>
            <a:chExt cx="5664240" cy="29689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981080" y="2209680"/>
              <a:ext cx="5664240" cy="29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981080" y="2209680"/>
              <a:ext cx="5664240" cy="29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 that returns an array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 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of the typ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[ 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ich means it contains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location/addres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 typed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ll return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tion/addr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 typed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 that returns an array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81080" y="2362320"/>
            <a:ext cx="5545080" cy="2968560"/>
            <a:chOff x="1981080" y="2362320"/>
            <a:chExt cx="5545080" cy="29685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981080" y="2362320"/>
              <a:ext cx="554508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981080" y="2362320"/>
              <a:ext cx="5545080" cy="29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746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valu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wo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08400" y="1600200"/>
            <a:ext cx="2936880" cy="5261040"/>
            <a:chOff x="3308400" y="1600200"/>
            <a:chExt cx="2936880" cy="5261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308400" y="1600200"/>
              <a:ext cx="2936880" cy="52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308400" y="1600200"/>
              <a:ext cx="2936880" cy="52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receive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56264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81400" y="1620720"/>
            <a:ext cx="4665600" cy="4776840"/>
            <a:chOff x="2381400" y="1620720"/>
            <a:chExt cx="4665600" cy="47768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381400" y="1620720"/>
              <a:ext cx="4665600" cy="47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81400" y="1620720"/>
              <a:ext cx="4665600" cy="47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Pass-by-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 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-by-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ch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p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parame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t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98480" y="1600200"/>
            <a:ext cx="5743800" cy="4522680"/>
            <a:chOff x="1698480" y="1600200"/>
            <a:chExt cx="5743800" cy="45226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1698480" y="1600200"/>
              <a:ext cx="574380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698480" y="1600200"/>
              <a:ext cx="574380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36840" y="1600200"/>
            <a:ext cx="6067440" cy="4522680"/>
            <a:chOff x="1536840" y="1600200"/>
            <a:chExt cx="6067440" cy="452268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36840" y="1600200"/>
              <a:ext cx="606744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36840" y="1600200"/>
              <a:ext cx="606744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Parameter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3520" y="1600200"/>
            <a:ext cx="5734080" cy="4522680"/>
            <a:chOff x="1703520" y="1600200"/>
            <a:chExt cx="5734080" cy="45226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703520" y="1600200"/>
              <a:ext cx="573408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703520" y="1600200"/>
              <a:ext cx="573408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1:25:13Z</dcterms:created>
  <dc:creator>chengzuo</dc:creator>
  <dc:description/>
  <dc:language>en-US</dc:language>
  <cp:lastModifiedBy>chengzuo</cp:lastModifiedBy>
  <dcterms:modified xsi:type="dcterms:W3CDTF">2012-11-02T17:04:52Z</dcterms:modified>
  <cp:revision>40</cp:revision>
  <dc:subject/>
  <dc:title>幻灯片 1</dc:title>
</cp:coreProperties>
</file>