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4886-B5C7-43E9-8B42-7A629FBD8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7937-67C0-4EEC-9E61-5E4E8AA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92B1-8971-49FA-A47B-02B22BDC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0D74-1F03-4FAB-B06A-C66A256E5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3F21-AC76-4FDA-8017-566893F2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8189-09C7-4D9D-907C-ADFABE6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E67F-18D6-47A0-A749-C17AA87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AF09-552B-4F18-BCB0-770031F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9786-A535-43AD-9998-3BA9C878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D6B7-86F9-4A8F-93C9-37CE980A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500F-B141-4DBA-859D-F4D7CD9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704D-0550-4A27-A5A0-6990742D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5FA81-45A3-4F03-88E2-6478264F6F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the Java Programming 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: expressing the steps in an algorith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n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str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ritten 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igh level) Programming Langu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ell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precise te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exactly it must d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statement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valu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cell named "A"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numbe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 numbe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number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≥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n d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therwise d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: grouping unit in Jav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r of "{" and "}" br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groups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outer 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 blo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inner 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it is called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 blo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695600" y="2743200"/>
            <a:ext cx="584820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a Java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1328760" y="1687680"/>
            <a:ext cx="6483240" cy="4348080"/>
            <a:chOff x="1328760" y="1687680"/>
            <a:chExt cx="6483240" cy="4348080"/>
          </a:xfrm>
        </p:grpSpPr>
        <p:pic>
          <p:nvPicPr>
            <p:cNvPr id="70" name="Picture 3" descr=""/>
            <p:cNvPicPr/>
            <p:nvPr/>
          </p:nvPicPr>
          <p:blipFill>
            <a:blip r:embed="rId1"/>
            <a:stretch/>
          </p:blipFill>
          <p:spPr>
            <a:xfrm>
              <a:off x="1328760" y="1687680"/>
              <a:ext cx="648324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"/>
            <p:cNvSpPr/>
            <p:nvPr/>
          </p:nvSpPr>
          <p:spPr>
            <a:xfrm>
              <a:off x="1328760" y="1687680"/>
              <a:ext cx="6483240" cy="43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Java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1681200" y="2135160"/>
            <a:ext cx="5778360" cy="3452760"/>
            <a:chOff x="1681200" y="2135160"/>
            <a:chExt cx="5778360" cy="3452760"/>
          </a:xfrm>
        </p:grpSpPr>
        <p:pic>
          <p:nvPicPr>
            <p:cNvPr id="74" name="Picture 3" descr=""/>
            <p:cNvPicPr/>
            <p:nvPr/>
          </p:nvPicPr>
          <p:blipFill>
            <a:blip r:embed="rId1"/>
            <a:stretch/>
          </p:blipFill>
          <p:spPr>
            <a:xfrm>
              <a:off x="1681200" y="2135160"/>
              <a:ext cx="5778360" cy="34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"/>
            <p:cNvSpPr/>
            <p:nvPr/>
          </p:nvSpPr>
          <p:spPr>
            <a:xfrm>
              <a:off x="1681200" y="2135160"/>
              <a:ext cx="5778360" cy="34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ng a computer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will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execu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is will b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819520" y="2771640"/>
            <a:ext cx="3276360" cy="40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: the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st unit of execu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 Java progra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ell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omething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System.out.println("Hello Class")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xecut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statement follow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nta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: a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(many) statements that perform a tas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erform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 performed by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stat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put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lled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752480" y="3333600"/>
            <a:ext cx="58770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 method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Method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scribe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new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METHOD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method (used for identificati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rac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...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the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103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 method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execution 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ngle) 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method =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method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d 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{ .... 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 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atement at a tim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87692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 method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run </a:t>
            </a: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s many tim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wa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atements in its 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428840" y="2343240"/>
            <a:ext cx="62863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 Java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rite 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yourself) in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ming langua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program using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instru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Let the computer execut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lated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instru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544824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: container for method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to perform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mplex ta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mplex 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will have to writ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perform the tas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al pur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put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umber of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a </a:t>
            </a: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lled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334008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: container for method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ust b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chosen 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contain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447920" y="3381480"/>
            <a:ext cx="634356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ssu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rv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langu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osen 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d insid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ssu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ust b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a, b, ..., z, A, B, ..., Z), or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core charac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qu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harac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a, b, ..., z, A, B, ..., Z), or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core charac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0, 1, ..., 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rs/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se-se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350856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4100400" y="4495680"/>
            <a:ext cx="504360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ssues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gn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otate the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help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nderstand the operation 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867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ssues (4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685800" y="2819520"/>
            <a:ext cx="3654360" cy="1749240"/>
            <a:chOff x="685800" y="2819520"/>
            <a:chExt cx="3654360" cy="174924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tretch/>
          </p:blipFill>
          <p:spPr>
            <a:xfrm>
              <a:off x="685800" y="2819520"/>
              <a:ext cx="365436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4"/>
            <p:cNvSpPr/>
            <p:nvPr/>
          </p:nvSpPr>
          <p:spPr>
            <a:xfrm>
              <a:off x="685800" y="2819520"/>
              <a:ext cx="36543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20280" y="16002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s are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-free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 Java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ranslated machin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duced by the </a:t>
            </a: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Java 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v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va bytec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Java bytec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executed by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va mach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--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byte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28660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a Java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does not exist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omputer (machin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can execut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byte 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tua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machi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same thing as a real machine, but 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hysical mach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virtual mach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v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 algorithm written 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bytec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527688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 = an algorithm + (lots of)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Computer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tell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ecisel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ccomplish the jo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that is stored i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do the jo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: storing the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fiabl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memory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124080" y="3809880"/>
            <a:ext cx="26575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Variable (Data Type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s its ow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tion encoding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= m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fem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tal status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= 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marri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Variable (Data Type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stored in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re ar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 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Numerical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are used to store data such as: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o 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extual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are used to stor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-numerical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uch as text in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 paper artic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p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o 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oolean (logical)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are used to store the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s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n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 enco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to represent the same kind of informati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: Creating Variab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orage 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(dat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 program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definition cla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variable definition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tell the computer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will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que)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like telling the computer to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get a </a:t>
            </a: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 sheet of 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new sheet of paper with the 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ame of the 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00:12:25Z</dcterms:created>
  <dc:creator>chengzuo</dc:creator>
  <dc:description/>
  <dc:language>en-US</dc:language>
  <cp:lastModifiedBy>chengzuo</cp:lastModifiedBy>
  <cp:lastPrinted>2012-09-07T17:26:59Z</cp:lastPrinted>
  <dcterms:modified xsi:type="dcterms:W3CDTF">2013-01-25T16:35:18Z</dcterms:modified>
  <cp:revision>125</cp:revision>
  <dc:subject/>
  <dc:title>Introduction to the Java Programming Language</dc:title>
</cp:coreProperties>
</file>