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8EF0-E032-4A9D-8E42-EEE173B17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1319-D194-48FB-9BD9-CDD31ABCC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D97B-28E1-4FA8-BBF8-DD05D5B72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70B3-68F7-46FE-B815-BBA466D618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B13F-EB06-4080-A58E-6918BFB17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2321-0FF2-4561-B53D-47EF8A099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D764-C5B4-4719-B61E-74FCEA274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8203-3435-4B37-BBB3-496A2D99C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EB2C-EBF2-4225-8AB1-C93824107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BA6A-FA35-4153-BB79-8DA4839FB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036B-BF47-481C-BB04-35D347BB0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9B76-2AA5-4EC4-B53D-26E578F13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1690E-D46F-4409-B18C-36D734D38F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's Math &amp; Scanner cla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put from the console input (6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 to read in a floating point numb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4771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put from the console input (7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rogramming courtesy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eed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input from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int out a (short)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mp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59892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8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8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al Inform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jacen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RAM memory to form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memory ce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btain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=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ignificant dig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we need to combin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mory ce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52840" cy="246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49053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-off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us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expres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use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compu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eeds to us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igher accurate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will not only us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ore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it will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ake a longer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comple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kinds of floating point numbers in Jav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vide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different s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numbers (and variabl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 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ha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use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 consecutive 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memory a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32 bit memory ce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uble 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ha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use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consecutive 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memory a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64 bit memory ce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precis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loating point variab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ub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 and double are considered a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ferent ty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271152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124080" y="4191120"/>
            <a:ext cx="26924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(casting) to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precis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present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coding meth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-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chine 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twee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encod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323208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876920" y="3486240"/>
            <a:ext cx="323856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important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henomenon in computer programming: </a:t>
            </a:r>
            <a:r>
              <a:rPr b="1" lang="en-US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st of accuracy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3" name="Group 2"/>
          <p:cNvGrpSpPr/>
          <p:nvPr/>
        </p:nvGrpSpPr>
        <p:grpSpPr>
          <a:xfrm>
            <a:off x="914400" y="1981080"/>
            <a:ext cx="3471840" cy="3595680"/>
            <a:chOff x="914400" y="1981080"/>
            <a:chExt cx="3471840" cy="3595680"/>
          </a:xfrm>
        </p:grpSpPr>
        <p:pic>
          <p:nvPicPr>
            <p:cNvPr id="94" name="Picture 3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347184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4"/>
            <p:cNvSpPr/>
            <p:nvPr/>
          </p:nvSpPr>
          <p:spPr>
            <a:xfrm>
              <a:off x="914400" y="1981080"/>
              <a:ext cx="3471840" cy="35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3438720" cy="67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af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version oper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f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representation (encod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presentation (encod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re there is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 (or very little) lo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ccurac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saf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representation (encod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presentation (encod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re there is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ignificant lo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ccurac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743200" y="5257800"/>
            <a:ext cx="3962520" cy="8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's Mathematical functions (methods)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4" name="Group 2"/>
          <p:cNvGrpSpPr/>
          <p:nvPr/>
        </p:nvGrpSpPr>
        <p:grpSpPr>
          <a:xfrm>
            <a:off x="2538360" y="2282760"/>
            <a:ext cx="4062600" cy="3156120"/>
            <a:chOff x="2538360" y="2282760"/>
            <a:chExt cx="4062600" cy="3156120"/>
          </a:xfrm>
        </p:grpSpPr>
        <p:pic>
          <p:nvPicPr>
            <p:cNvPr id="45" name="Picture 3" descr=""/>
            <p:cNvPicPr/>
            <p:nvPr/>
          </p:nvPicPr>
          <p:blipFill>
            <a:blip r:embed="rId1"/>
            <a:stretch/>
          </p:blipFill>
          <p:spPr>
            <a:xfrm>
              <a:off x="2538360" y="2282760"/>
              <a:ext cx="4062600" cy="31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4"/>
            <p:cNvSpPr/>
            <p:nvPr/>
          </p:nvSpPr>
          <p:spPr>
            <a:xfrm>
              <a:off x="2538360" y="2282760"/>
              <a:ext cx="406260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 containing values of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ta ty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perform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ffering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ust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y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erform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99096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conversion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express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mo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float to doubl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Sto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sign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 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 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 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29264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2438280" y="5181480"/>
            <a:ext cx="4191120" cy="7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rul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automatic type conversion in the 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ion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uracy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2 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tomatically conve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for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execut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uracy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llow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 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sting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mak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statement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8177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's Mathematical functions (methods)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h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a co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 it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       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a co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2498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's Mathematical functions (methods) (3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d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i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ant 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computed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e a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int 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d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or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ant 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save) a computed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e an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ssignment 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41911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put from the console input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 the Java progra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arts running,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runtim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itialize many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support for the running progra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system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.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present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 inpu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s inpu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rough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yboar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put from the console input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'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library cla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lass insid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.util.Scann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a Java program can read input from the keyboard, the program must 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tru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canner obje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plain late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666880" y="4724280"/>
            <a:ext cx="4295880" cy="6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666880" y="5943600"/>
            <a:ext cx="4191120" cy="6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put from the console input (3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constru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anner 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ame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can use the following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d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ating point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ve (sto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in b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n.nextDouble()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 typed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419436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put from the console input (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.nextDoubl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(ru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method 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's 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erformed b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.nextDoubl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81840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put from the console input (5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value 3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894360" cy="357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4:03:50Z</dcterms:created>
  <dc:creator>chengzuo</dc:creator>
  <dc:description/>
  <dc:language>en-US</dc:language>
  <cp:lastModifiedBy>chengzuo</cp:lastModifiedBy>
  <dcterms:modified xsi:type="dcterms:W3CDTF">2013-02-01T16:07:50Z</dcterms:modified>
  <cp:revision>186</cp:revision>
  <dc:subject/>
  <dc:title>Using Java's Math &amp; Scanner class</dc:title>
</cp:coreProperties>
</file>