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E2D-AB38-44AB-967C-94395B0B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63F-AAB2-40D7-9D99-1EA321C0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220-021A-4155-813C-3B2A7EC6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2B4-0645-4364-BA43-F3789566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C12-2350-4CA5-B0FF-D22B3500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80C-A572-466D-9E39-05FF230D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A30-58C3-41EA-8C6D-EF448A40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4A3-395C-41AF-B713-36F37363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706-B71E-4183-8AC4-D7A5C206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95F-472F-47C9-B119-97283C24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291-7B94-44BE-8557-EAB85742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D12-3FA6-4923-975D-0863BFB6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7285-1640-49C9-B7AC-95FFC938C8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Intro to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ursiv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sear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lgorithm(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内容占位符 3" descr="bin-search04.gif"/>
          <p:cNvPicPr/>
          <p:nvPr/>
        </p:nvPicPr>
        <p:blipFill>
          <a:blip r:embed="rId1"/>
          <a:stretch/>
        </p:blipFill>
        <p:spPr>
          <a:xfrm>
            <a:off x="1386000" y="1600200"/>
            <a:ext cx="637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ursiv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sear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lgorithm(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内容占位符 3" descr="QQ截图20121207125546.png"/>
          <p:cNvPicPr/>
          <p:nvPr/>
        </p:nvPicPr>
        <p:blipFill>
          <a:blip r:embed="rId1"/>
          <a:stretch/>
        </p:blipFill>
        <p:spPr>
          <a:xfrm>
            <a:off x="2743200" y="1378080"/>
            <a:ext cx="396252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onacci Number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+ 1 =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+ 1 = 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 + 2 = 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+ 3 = 8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 + 5 = 1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: 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n ≥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onacci Number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onacci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 ha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sive prop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onacci(n) (= 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 b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wo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al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e (simple)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onacci 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 b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3" descr="QQ截图20121207123525.png"/>
          <p:cNvPicPr/>
          <p:nvPr/>
        </p:nvPicPr>
        <p:blipFill>
          <a:blip r:embed="rId1"/>
          <a:stretch/>
        </p:blipFill>
        <p:spPr>
          <a:xfrm>
            <a:off x="2743200" y="3505320"/>
            <a:ext cx="3162240" cy="961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QQ截图20121207123534.png"/>
          <p:cNvPicPr/>
          <p:nvPr/>
        </p:nvPicPr>
        <p:blipFill>
          <a:blip r:embed="rId2"/>
          <a:stretch/>
        </p:blipFill>
        <p:spPr>
          <a:xfrm>
            <a:off x="3352680" y="5638680"/>
            <a:ext cx="22766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onacci Numbers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Whi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o we use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onacci(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3" descr="QQ截图20121207123855.png"/>
          <p:cNvPicPr/>
          <p:nvPr/>
        </p:nvPicPr>
        <p:blipFill>
          <a:blip r:embed="rId1"/>
          <a:stretch/>
        </p:blipFill>
        <p:spPr>
          <a:xfrm>
            <a:off x="3200400" y="2438280"/>
            <a:ext cx="29811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onacci Numbers 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o w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solv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onacci(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ecause we use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onacci(n−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will need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base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3" descr="QQ截图20121207124031.png"/>
          <p:cNvPicPr/>
          <p:nvPr/>
        </p:nvPicPr>
        <p:blipFill>
          <a:blip r:embed="rId1"/>
          <a:stretch/>
        </p:blipFill>
        <p:spPr>
          <a:xfrm>
            <a:off x="3124080" y="2514600"/>
            <a:ext cx="290520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" descr="QQ截图20121207124039.png"/>
          <p:cNvPicPr/>
          <p:nvPr/>
        </p:nvPicPr>
        <p:blipFill>
          <a:blip r:embed="rId2"/>
          <a:stretch/>
        </p:blipFill>
        <p:spPr>
          <a:xfrm>
            <a:off x="3352680" y="5029200"/>
            <a:ext cx="23338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onacci Numbers (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内容占位符 3" descr="QQ截图20121207124159.png"/>
          <p:cNvPicPr/>
          <p:nvPr/>
        </p:nvPicPr>
        <p:blipFill>
          <a:blip r:embed="rId1"/>
          <a:stretch/>
        </p:blipFill>
        <p:spPr>
          <a:xfrm>
            <a:off x="2109960" y="1600200"/>
            <a:ext cx="492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ursiv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sear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lgorithm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are given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ray (of numb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array element that ha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图片 3" descr="QQ截图20121207124429.png"/>
          <p:cNvPicPr/>
          <p:nvPr/>
        </p:nvPicPr>
        <p:blipFill>
          <a:blip r:embed="rId1"/>
          <a:stretch/>
        </p:blipFill>
        <p:spPr>
          <a:xfrm>
            <a:off x="1828800" y="2514600"/>
            <a:ext cx="54244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ursiv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sear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lgorithm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array element that ha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3" descr="bin-search02.gif"/>
          <p:cNvPicPr/>
          <p:nvPr/>
        </p:nvPicPr>
        <p:blipFill>
          <a:blip r:embed="rId1"/>
          <a:stretch/>
        </p:blipFill>
        <p:spPr>
          <a:xfrm>
            <a:off x="1828800" y="2590920"/>
            <a:ext cx="5286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ursiv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sear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lgorithm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array element that ha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3" descr="bin-search03.gif"/>
          <p:cNvPicPr/>
          <p:nvPr/>
        </p:nvPicPr>
        <p:blipFill>
          <a:blip r:embed="rId1"/>
          <a:stretch/>
        </p:blipFill>
        <p:spPr>
          <a:xfrm>
            <a:off x="1447920" y="2438280"/>
            <a:ext cx="64767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7:29:24Z</dcterms:created>
  <dc:creator>chengzuo</dc:creator>
  <dc:description/>
  <dc:language>en-US</dc:language>
  <cp:lastModifiedBy>chengzuo</cp:lastModifiedBy>
  <dcterms:modified xsi:type="dcterms:W3CDTF">2012-12-07T17:56:16Z</dcterms:modified>
  <cp:revision>28</cp:revision>
  <dc:subject/>
  <dc:title>Intro to Recursion</dc:title>
</cp:coreProperties>
</file>