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A3D5B-94DE-4BEE-9CB4-F31B6DE8F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D8D00-51AB-4CDF-AEE1-884CBF1AF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7B518-4DB7-44FD-880A-FAD4D935A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4E387-B440-4887-923D-CAC0569C9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A5E6A-D325-4B91-9EAB-CFCC9C848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6E7BE-E795-49E5-AEA1-3CDCD8D5C9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EC877-3A9F-4C79-9792-B5D447D11B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9ADCE-1753-4299-9B8D-640AA3610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7BFD0-8B7F-4D47-A84B-912BA1DF85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D1ECC-9AEF-4E44-95FE-FB611954B3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21BC1-E616-42A2-B8F5-113861E2B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F2E76-365A-4790-8273-F598E609A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B04F9-6D80-4C6D-8BF2-4C5D0CEF08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4F14F-009F-4832-9E9C-24A9817F5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F531B-5FF1-4A13-B748-FA131CA55C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DB0D5-6038-4CBB-8A0A-A9115963F5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3E1-CBC9-4C91-8403-49053050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992E-C6F7-4CD0-B82F-C51FC654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E9F-857B-4A2C-8575-0F10C733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68D-3FA5-4005-88FD-99B98D6F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17B-30D1-4E2C-A586-2B882F66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A27-0ACA-4A21-ABFA-EBB0AA3E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E1AF-17F4-44FC-96F7-E2F2078C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683-97F6-42B0-80F3-75F7C61E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D80-B107-4E8D-B7EA-E1BDF850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56E-3598-4019-8BF5-39DA7568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5FE-B5EC-4F17-8973-219F8018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045-F694-4BD0-B3CA-7958D094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CDF77-FFAB-4D60-BDCD-0F1CF6C21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f-else stat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: leap year (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41768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 fontScale="81000"/>
          </a:bodyPr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mport java.util.Scann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public class LeapYear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public static void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nt     ye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boolean lea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canner in = new Scanner(System.in); // Construct Scanner object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year = in.nextInt();             // Read in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f ( </a:t>
            </a: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year % 4 == 0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leap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leap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f ( </a:t>
            </a: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year % 100 == 0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leap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f ( </a:t>
            </a: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year % 400 == 0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leap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ystem.out.println("Year is leap year ? " + lea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: leap year (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 fontScale="91000"/>
          </a:bodyPr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mport java.util.Scann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public class LeapYear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public static void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nt     ye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boolean lea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canner in = new Scanner(System.in); // Construct Scanner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ystem.out.print("Enter year: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year = in.nextInt();             // Read in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f ( </a:t>
            </a: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(year % 4 == 0) &amp;&amp; !(year % 100 == 0) || (year % 400 == 0)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ystem.out.println("It is a leap year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ystem.out.println("It is NOT a leap year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ng floating point values on equality (and inequality) (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When are 2 valu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eq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to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Two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"/>
                <a:ea typeface="Times New Roman Bold"/>
              </a:rPr>
              <a:t>eq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y are </a:t>
            </a:r>
            <a:r>
              <a:rPr b="0" lang="en-US" sz="2400" spc="-1" strike="noStrike">
                <a:solidFill>
                  <a:srgbClr val="760078"/>
                </a:solidFill>
                <a:latin typeface="Times New Roman Bold"/>
                <a:ea typeface="Times New Roman Bold"/>
              </a:rPr>
              <a:t>eq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 Italic"/>
                <a:ea typeface="Times New Roman Bold Italic"/>
              </a:rPr>
              <a:t>all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"/>
                <a:ea typeface="Times New Roman Bold"/>
              </a:rPr>
              <a:t>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onsequ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                 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4.00000000000001 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"/>
                <a:ea typeface="Times New Roman Bold"/>
              </a:rPr>
              <a:t>!=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 3.9999999999999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ng floating point values on equality (and inequality) (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 fontScale="91000"/>
          </a:bodyPr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public class FloatE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public static void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double a,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a = </a:t>
            </a: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4.0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b = </a:t>
            </a: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4.0/7.0 + 4.0/7.0 + 4.0/7.0 + 4.0/7.0 + 4.0/7.0 + 4.0/7.0 + 4.0/7.0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;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ystem.out.println("a = " + 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ystem.out.println("b = " + b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f ( </a:t>
            </a: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a == b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ystem.out.println("a is equal to b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ystem.out.println("a is NOT equal to b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ity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in a given tolerance (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we want to test if 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2 values a and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"/>
                <a:ea typeface="Times New Roman Bold"/>
              </a:rPr>
              <a:t>approximately eq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each other, we use this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       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if (  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"/>
                <a:ea typeface="Times New Roman Bold"/>
              </a:rPr>
              <a:t>absoluteValue( b − a ) &lt; some-very-small-value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 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   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	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  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                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"/>
                <a:ea typeface="Times New Roman Bold"/>
              </a:rPr>
              <a:t>a and b are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       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       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       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                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"/>
                <a:ea typeface="Times New Roman Bold"/>
              </a:rPr>
              <a:t>a and b are not equal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 (too far ap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       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ity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in a given tolerance (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9920" y="16398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 fontScale="91000"/>
          </a:bodyPr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public class FloatE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public static void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double a,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a = 4.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b = 4.0/7.0 + 4.0/7.0 + 4.0/7.0 + 4.0/7.0 + 4.0/7.0 + 4.0/7.0 + 4.0/7.0;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ystem.out.println("a = " + 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ystem.out.println("b = " + b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f ( </a:t>
            </a: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Math.abs( b - a ) &lt; 0.000000001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ystem.out.println("a is (approximately) equal to b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ystem.out.println("a is NOT (approximately) equal to b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ヒラギノ角ゴ ProN W6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ditional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ditional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2920" y="1763640"/>
            <a:ext cx="93250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ditional statem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i.e., an 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-statem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r an 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-else-statem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 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s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use an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-statem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r an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-else-statem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n-pa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and in the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se-pa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f a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 statem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!!   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Nested</a:t>
            </a:r>
            <a:r>
              <a:rPr b="1" lang="en-US" sz="2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 conditional statem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a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 statem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whe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-pa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/or the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-pa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tains 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oth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ditional  stat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: determine the price for a hair cut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内容占位符 3" descr="QQ截图20120928003842.bmp"/>
          <p:cNvPicPr/>
          <p:nvPr/>
        </p:nvPicPr>
        <p:blipFill>
          <a:blip r:embed="rId1"/>
          <a:stretch/>
        </p:blipFill>
        <p:spPr>
          <a:xfrm>
            <a:off x="3108240" y="2184480"/>
            <a:ext cx="4032360" cy="21412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" descr="QQ截图20120928003856.bmp"/>
          <p:cNvPicPr/>
          <p:nvPr/>
        </p:nvPicPr>
        <p:blipFill>
          <a:blip r:embed="rId2"/>
          <a:stretch/>
        </p:blipFill>
        <p:spPr>
          <a:xfrm>
            <a:off x="3192480" y="4956120"/>
            <a:ext cx="390204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: determine the price for a hair cu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内容占位符 3" descr="QQ截图20120928003944.bmp"/>
          <p:cNvPicPr/>
          <p:nvPr/>
        </p:nvPicPr>
        <p:blipFill>
          <a:blip r:embed="rId1"/>
          <a:stretch/>
        </p:blipFill>
        <p:spPr>
          <a:xfrm>
            <a:off x="1606680" y="2652840"/>
            <a:ext cx="686736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864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The </a:t>
            </a:r>
            <a:r>
              <a:rPr b="0" lang="en-US" sz="3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if-else statement</a:t>
            </a:r>
            <a:r>
              <a:rPr b="0" lang="en-US" sz="3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in Jav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f-else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1" i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second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conditional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f-else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one of the two possible stat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sed on a given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f (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condition is true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) then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execute this statement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execute the other statement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: determine the price for a hair cut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内容占位符 3" descr="QQ截图20120928004048.bmp"/>
          <p:cNvPicPr/>
          <p:nvPr/>
        </p:nvPicPr>
        <p:blipFill>
          <a:blip r:embed="rId1"/>
          <a:stretch/>
        </p:blipFill>
        <p:spPr>
          <a:xfrm>
            <a:off x="3360600" y="1932120"/>
            <a:ext cx="362448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and meaning of th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-else-state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t">
            <a:normAutofit fontScale="94000"/>
          </a:bodyPr>
          <a:p>
            <a:pPr marL="32220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if-else-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                                 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"/>
                <a:ea typeface="Times New Roman Bold"/>
              </a:rPr>
              <a:t>if (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 CONDITION 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"/>
                <a:ea typeface="Times New Roman Bold"/>
              </a:rPr>
              <a:t>)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                                    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ONE-statement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                                 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"/>
                <a:ea typeface="Times New Roman Bold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                                    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ONE-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"/>
                <a:ea typeface="Times New Roman Bold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nounces (to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Java compi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hat we started an 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if-else-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onditional cl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"/>
                <a:ea typeface="Times New Roman Bold"/>
              </a:rPr>
              <a:t>( 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CONDITION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"/>
                <a:ea typeface="Times New Roman Bold"/>
              </a:rPr>
              <a:t>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llows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"/>
                <a:ea typeface="Times New Roman Bold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the 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condition cl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ou can write (only) 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 Italic"/>
                <a:ea typeface="Times New Roman Bold Italic"/>
              </a:rPr>
              <a:t>one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"/>
                <a:ea typeface="Times New Roman Bold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the </a:t>
            </a:r>
            <a:r>
              <a:rPr b="0" lang="en-US" sz="2400" spc="-1" strike="noStrike">
                <a:solidFill>
                  <a:srgbClr val="0000fe"/>
                </a:solidFill>
                <a:latin typeface="Times New Roman Bold"/>
                <a:ea typeface="Times New Roman Bold"/>
              </a:rPr>
              <a:t>then-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ou 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"/>
                <a:ea typeface="Times New Roman Bold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y the </a:t>
            </a:r>
            <a:r>
              <a:rPr b="0" lang="en-US" sz="2400" spc="-1" strike="noStrike">
                <a:solidFill>
                  <a:srgbClr val="760078"/>
                </a:solidFill>
                <a:latin typeface="Times New Roman Bold"/>
                <a:ea typeface="Times New Roman Bold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"/>
                <a:ea typeface="Times New Roman Bold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llowed by (only) 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 Italic"/>
                <a:ea typeface="Times New Roman Bold Italic"/>
              </a:rPr>
              <a:t>one</a:t>
            </a:r>
            <a:r>
              <a:rPr b="0" lang="en-US" sz="2400" spc="-1" strike="noStrike">
                <a:solidFill>
                  <a:srgbClr val="fb0007"/>
                </a:solidFill>
                <a:latin typeface="Times New Roman Bold"/>
                <a:ea typeface="Times New Roman Bold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864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rogramming example: find maximum of 2 numbers (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73915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864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rogramming example: find maximum of 2 numbers (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import java.util.Scann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public class Max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public static void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double a, b, max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Scanner in = new Scanner(System.in); // Construct Scanner object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a = </a:t>
            </a:r>
            <a:r>
              <a:rPr b="1" lang="en-US" sz="16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in.nextDouble()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;  // Read in next number into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b = </a:t>
            </a:r>
            <a:r>
              <a:rPr b="1" lang="en-US" sz="16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in.nextDouble()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;  // Read in next number into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f ( </a:t>
            </a: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a &gt;= b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max =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max =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ystem.out.println( </a:t>
            </a: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"max value = " + max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864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rogram example: find maximum of 3 numbers (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7480440" cy="42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864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rogram example: find maximum of 3 numbers (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 fontScale="91000"/>
          </a:bodyPr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import java.util.Scann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public class Max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public static void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double a, b, max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Scanner in = new Scanner(System.in); // Construct Scanner object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a = </a:t>
            </a:r>
            <a:r>
              <a:rPr b="1" lang="en-US" sz="16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in.nextDouble()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;  // Read in next number into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b = </a:t>
            </a:r>
            <a:r>
              <a:rPr b="1" lang="en-US" sz="16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in.nextDouble()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;  // Read in next number into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c = </a:t>
            </a:r>
            <a:r>
              <a:rPr b="1" lang="en-US" sz="1600" spc="-1" strike="noStrike">
                <a:solidFill>
                  <a:srgbClr val="760003"/>
                </a:solidFill>
                <a:latin typeface="Times New Roman"/>
                <a:ea typeface="Times New Roman"/>
              </a:rPr>
              <a:t>in.nextDouble()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;  // Read in next number into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f ( </a:t>
            </a: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a &gt;= b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)      // Find max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max =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max =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if ( </a:t>
            </a: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c &gt; max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)     // Check c &gt; max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max =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System.out.println( </a:t>
            </a: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"max value = " + max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: leap year (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Gregorian calendar, the current standard calendar in most of the world,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most ye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re evenly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divisible by 4 are leap ye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rs that are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evenly divisible by 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not leap ye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b00fe"/>
                </a:solidFill>
                <a:latin typeface="Times New Roman"/>
                <a:ea typeface="Times New Roman"/>
              </a:rPr>
              <a:t>unl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y are also </a:t>
            </a:r>
            <a:r>
              <a:rPr b="1" lang="en-US" sz="24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evenly divisible by 4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 which case </a:t>
            </a:r>
            <a:r>
              <a:rPr b="1" lang="en-US" sz="24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they are leap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Year        Leap year ?       Rea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----------    ---------------        ================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1904          Yes            Divisible b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1900          </a:t>
            </a: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No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    Divisible by </a:t>
            </a:r>
            <a:r>
              <a:rPr b="1" lang="en-US" sz="1600" spc="-1" strike="noStrike">
                <a:solidFill>
                  <a:srgbClr val="fb0007"/>
                </a:solidFill>
                <a:latin typeface="Times New Roman"/>
                <a:ea typeface="Times New Roman"/>
              </a:rPr>
              <a:t>100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     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e"/>
                </a:solidFill>
                <a:latin typeface="Times New Roman"/>
                <a:ea typeface="Times New Roman"/>
              </a:rPr>
              <a:t>2000          Yes            Divisible by 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example: leap year (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7226280" cy="473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7:07:05Z</dcterms:created>
  <dc:creator>Intro I</dc:creator>
  <dc:description/>
  <dc:language>en-US</dc:language>
  <cp:lastModifiedBy>chengzuo</cp:lastModifiedBy>
  <dcterms:modified xsi:type="dcterms:W3CDTF">2013-02-11T16:48:08Z</dcterms:modified>
  <cp:revision>14</cp:revision>
  <dc:subject/>
  <dc:title>幻灯片 1</dc:title>
</cp:coreProperties>
</file>