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5FD0-9EDA-47E2-9B35-FEB96689A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3269-7900-4B50-B7CB-D24A4B195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1098-8659-4D99-9CF4-D50B2FA1C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D9F8-AFFE-41F4-9F96-6A4F4F617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B441-A0D6-4386-9705-74C5EC3CAC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160E-932B-4DE8-82F1-AC36F3DB7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BE3C-2301-4A78-AEF8-91D02CC61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7E2B-3501-483E-B7E8-13F708FAC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D191-9289-4C24-996D-EF7DD85F2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3F8B-8781-47F2-A09B-DB8F4516C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06D6-DD51-45EA-9A30-282E26599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3325-267D-4E1A-A327-F2CEF454A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D651A-FAFE-4D2B-BA36-34C9FBBDDF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752480"/>
            <a:ext cx="7924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Introduction to programmable computing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rdware and Softwar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will first study how 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 (hardwar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connected together so it c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xecute computer pro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we will study what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 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o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gical view of a computer (hardw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gical (functional) view of 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1828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unctionality of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(Mem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ructure of the Memory (RA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905120"/>
            <a:ext cx="7543800" cy="452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onsists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ltiple memory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emory c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niqu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dentified by i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emory 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mory addresses alway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t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zero (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ast memory 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epends o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mount of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nstalled in the computer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4572000" cy="17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1522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tion of the mem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9144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call (retriev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lues for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752480"/>
            <a:ext cx="7162920" cy="4909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emory c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store on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 this 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4046400" cy="1508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14800" y="4572000"/>
            <a:ext cx="3962520" cy="171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Times New Roman"/>
                <a:ea typeface="宋体"/>
              </a:rPr>
              <a:t>Memory location 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stores the value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宋体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Times New Roman"/>
                <a:ea typeface="宋体"/>
              </a:rPr>
              <a:t>Memory location 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stores the value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Times New Roman"/>
                <a:ea typeface="宋体"/>
              </a:rPr>
              <a:t>Memory location 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stores the value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Times New Roman"/>
                <a:ea typeface="宋体"/>
              </a:rPr>
              <a:t>Memory location 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stores the value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宋体"/>
              </a:rPr>
              <a:t>45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..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tion of the memory (cont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(RAM)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905120"/>
            <a:ext cx="7238880" cy="4162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AM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orks just like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tore/re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utt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AM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under the control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581280"/>
            <a:ext cx="51055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store a value in a specific memory location 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RAM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re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stored value later when it needs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52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Storing information in memory cells using number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1219320"/>
            <a:ext cx="784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coding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simply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gre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n a representation of some facts by specific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ommon type of things are represented by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nside a comput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3352680"/>
            <a:ext cx="6065640" cy="1557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stru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tells the computer what to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ious kinds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are stored and manipulated by the compu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programs (Softwar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progr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hematic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hat a computer program look li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057400"/>
            <a:ext cx="609588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is a (very long) list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instru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are </a:t>
            </a:r>
            <a:r>
              <a:rPr b="0" lang="en-US" sz="2400" spc="-1" strike="noStrike">
                <a:solidFill>
                  <a:srgbClr val="8b0000"/>
                </a:solidFill>
                <a:latin typeface="Times New Roman"/>
                <a:ea typeface="宋体"/>
              </a:rPr>
              <a:t>execu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y the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4191120"/>
            <a:ext cx="3200400" cy="2128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"add x to y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"subtract x from y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"multiply x with y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programs (Software)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stru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r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o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represented in Engl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but by som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ome programs contains over 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illion instru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instru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y numb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676520"/>
            <a:ext cx="6705360" cy="4718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per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athematical 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logical 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743200"/>
            <a:ext cx="2971800" cy="3180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ub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ultip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ivi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ompare 2 numb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And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2 logical 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Or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2 logical 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instruction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represented by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unique enco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2971800"/>
            <a:ext cx="3733560" cy="2128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d so on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a compu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w was the computer developed/invent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2133720"/>
            <a:ext cx="7391520" cy="1381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"reckoning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ompu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evice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 fact: a computer is an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rogramm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omputing de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that helps humans do their ch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4495680"/>
            <a:ext cx="7162920" cy="1937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umans invent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ing de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ncient ti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 the industrial revolutio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rogrammable mach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ere inv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mputer is 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s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 ide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programs - revisi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program: (the naked tru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hematically: what a computer program look something li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epresents 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 instr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1828800"/>
            <a:ext cx="6400800" cy="1099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 progr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(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 is a (very long) list of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numb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represent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instruc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are </a:t>
            </a:r>
            <a:r>
              <a:rPr b="0" lang="en-US" sz="2200" spc="-1" strike="noStrike">
                <a:solidFill>
                  <a:srgbClr val="8b0000"/>
                </a:solidFill>
                <a:latin typeface="Times New Roman"/>
                <a:ea typeface="宋体"/>
              </a:rPr>
              <a:t>execu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by the compu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4038480"/>
            <a:ext cx="129528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25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87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726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used to proces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2590920"/>
            <a:ext cx="662940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w i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tored inside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??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presenting various kind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y numb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133720"/>
            <a:ext cx="7086600" cy="450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ame technique is used to encode any type of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encoding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gender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encoding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marital status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93640" y="3124080"/>
            <a:ext cx="1748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fe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20920" y="4724280"/>
            <a:ext cx="2033640" cy="1557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arr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ivorc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widow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3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w can we tell what a number stored in the computer mean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 the previous examples, we saw that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umber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can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nly t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hat is the meaning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umber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f we are give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905120"/>
            <a:ext cx="5410080" cy="1572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in instruction encod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in gender informa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in marital status informa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4952880"/>
            <a:ext cx="342900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ontex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w we can tell what a number stored in the computer mean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xecuting an instr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xamining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gend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xamining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arital statu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2209680"/>
            <a:ext cx="7467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umber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means "per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d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"      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3505320"/>
            <a:ext cx="44960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umber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means "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" 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5181480"/>
            <a:ext cx="44960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umber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means “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" 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om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ing devic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invented throughout histo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"Ancient" computing device: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bac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828800"/>
            <a:ext cx="16002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oy abac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4572000"/>
            <a:ext cx="2971800" cy="1448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 beads in row 1 = unit 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 beads in row 2 = 10's 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 beads in row 3 = 100's 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d so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828800"/>
            <a:ext cx="16002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l abac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2239920" cy="149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4114800"/>
            <a:ext cx="3886200" cy="2189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 beads in column 1 = unit 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 beads in column 2 = 10's 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 beads in column 3 = 100's 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d so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 bead in upper half = 5 beads in lower hal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Value represented by abacus 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6357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2286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mable machines, programs and instru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mable machi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447920"/>
            <a:ext cx="723888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rogrammable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mach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 a device whic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b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 a </a:t>
            </a:r>
            <a:r>
              <a:rPr b="0" lang="en-US" sz="2000" spc="-1" strike="noStrike">
                <a:solidFill>
                  <a:srgbClr val="8b008b"/>
                </a:solidFill>
                <a:latin typeface="Times New Roman"/>
                <a:ea typeface="宋体"/>
              </a:rPr>
              <a:t>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895480"/>
            <a:ext cx="7086600" cy="703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series of instru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accomplishes a </a:t>
            </a:r>
            <a:r>
              <a:rPr b="0" lang="en-US" sz="2000" spc="-1" strike="noStrike">
                <a:solidFill>
                  <a:srgbClr val="8b0000"/>
                </a:solidFill>
                <a:latin typeface="Times New Roman"/>
                <a:ea typeface="宋体"/>
              </a:rPr>
              <a:t>specific t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       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4419720"/>
            <a:ext cx="2514600" cy="2101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81280" y="4267080"/>
            <a:ext cx="5410440" cy="1936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holes in the </a:t>
            </a:r>
            <a:r>
              <a:rPr b="0" lang="en-US" sz="2000" spc="-1" strike="noStrike">
                <a:solidFill>
                  <a:srgbClr val="8b008b"/>
                </a:solidFill>
                <a:latin typeface="Times New Roman"/>
                <a:ea typeface="宋体"/>
              </a:rPr>
              <a:t>card bo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or some mach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a hole </a:t>
            </a:r>
            <a:r>
              <a:rPr b="0" lang="en-US" sz="2000" spc="-1" strike="noStrike">
                <a:solidFill>
                  <a:srgbClr val="8b008b"/>
                </a:solidFill>
                <a:latin typeface="Times New Roman"/>
                <a:ea typeface="宋体"/>
              </a:rPr>
              <a:t>enco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ertain mea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nsists of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series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row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(= instruction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n the card bo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920" y="228600"/>
            <a:ext cx="6019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struction enco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219320"/>
            <a:ext cx="83822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structions (= program instructions) tells a machin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at to 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structions are represented usi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ncodin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 enco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other example: encoding a song on pa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2590920"/>
            <a:ext cx="2819160" cy="1263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means </a:t>
            </a:r>
            <a:r>
              <a:rPr b="0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ad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means </a:t>
            </a:r>
            <a:r>
              <a:rPr b="0" lang="en-US" sz="1900" spc="-1" strike="noStrike">
                <a:solidFill>
                  <a:srgbClr val="ff0000"/>
                </a:solidFill>
                <a:latin typeface="Times New Roman"/>
                <a:ea typeface="宋体"/>
              </a:rPr>
              <a:t>subtrac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And so on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4343400"/>
            <a:ext cx="3962520" cy="2387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ho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he paper corresponds to a particula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usical 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coding a song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series of ho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he paper make the mechanical piano/music box play the notes of a so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4495680"/>
            <a:ext cx="274320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80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ost common perception of a compute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onent of the computer by their functional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057400"/>
            <a:ext cx="3810240" cy="43628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 de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allow users to enter input to the computer (mouse, keyboard, microphone, camer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 de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llow the computer to display output to the user (monitor, printer, speak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/output de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used by the computer to store data and/or communicate with other computers (CD-rom, floppy drive, hard drive, modem, networ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omputer 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that's the box in the middle of the pictur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419720" cy="28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jarg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2362320"/>
            <a:ext cx="6477120" cy="3240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hysical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a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ase containing the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ybo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rm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ost common uses of a compu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day,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ost popular us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a computer a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perations of these tas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iff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widely from each 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d yet, they ar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ccomplish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using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ame mach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a computer) through executing a </a:t>
            </a:r>
            <a:r>
              <a:rPr b="0" lang="en-US" sz="2400" spc="-1" strike="noStrike">
                <a:solidFill>
                  <a:srgbClr val="8b0000"/>
                </a:solidFill>
                <a:latin typeface="Times New Roman"/>
                <a:ea typeface="宋体"/>
              </a:rPr>
              <a:t>different computer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2438280"/>
            <a:ext cx="5333760" cy="157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Web brow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lay g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Text proces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for homework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1080"/>
            <a:ext cx="8077320" cy="3581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=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uter pro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you run with a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b brow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 g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soft 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soft Exc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5:06:43Z</dcterms:created>
  <dc:creator>Nathanie</dc:creator>
  <dc:description/>
  <dc:language>en-US</dc:language>
  <cp:lastModifiedBy>chengzuo</cp:lastModifiedBy>
  <cp:lastPrinted>2013-01-18T17:20:11Z</cp:lastPrinted>
  <dcterms:modified xsi:type="dcterms:W3CDTF">2013-01-18T16:30:07Z</dcterms:modified>
  <cp:revision>129</cp:revision>
  <dc:subject/>
  <dc:title>PowerPoint Presentation</dc:title>
</cp:coreProperties>
</file>