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D2B-22FE-4112-8929-E57CC066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64C-652E-4A01-8164-4069713D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BF0-3431-419C-AA53-CFBD3526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2DD-8933-47F1-8F48-9FFEA7FB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F4A-3B29-4DE4-8206-242C809F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DC9-F3B5-44A2-B296-DE46F402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939-A92C-44EC-A527-86C4F2BD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DA0-C9B8-4BAD-842F-90CE3487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979-AFC9-465D-B162-A7BBBE5D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CC2-7902-42BE-B693-B630FF6F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62E-9C47-44E6-A374-D5FF311E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CCC-1AFF-4D90-A5F7-7632C2DA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12A0-50B5-4E81-B223-F08DDAD760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Sort an array - 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selection sor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 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(1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内容占位符 3" descr="QQ截图20121027003335.png"/>
          <p:cNvPicPr/>
          <p:nvPr/>
        </p:nvPicPr>
        <p:blipFill>
          <a:blip r:embed="rId1"/>
          <a:stretch/>
        </p:blipFill>
        <p:spPr>
          <a:xfrm>
            <a:off x="1600200" y="2209680"/>
            <a:ext cx="6645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(2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内容占位符 3" descr="QQ截图20121027003344.png"/>
          <p:cNvPicPr/>
          <p:nvPr/>
        </p:nvPicPr>
        <p:blipFill>
          <a:blip r:embed="rId1"/>
          <a:stretch/>
        </p:blipFill>
        <p:spPr>
          <a:xfrm>
            <a:off x="1600200" y="2133720"/>
            <a:ext cx="5997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maller)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mong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[i], ..., a[n-1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for som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lu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wo array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Subproblem 1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elements a[i], a[i+1], ..., a[n-1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a.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mong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elements a[i], a[i+1], ..., a[n-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3" descr="QQ截图20121027003908.png"/>
          <p:cNvPicPr/>
          <p:nvPr/>
        </p:nvPicPr>
        <p:blipFill>
          <a:blip r:embed="rId1"/>
          <a:stretch/>
        </p:blipFill>
        <p:spPr>
          <a:xfrm>
            <a:off x="1600200" y="2286000"/>
            <a:ext cx="57722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Subproblem 1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内容占位符 3" descr="QQ截图20121027004150.png"/>
          <p:cNvPicPr/>
          <p:nvPr/>
        </p:nvPicPr>
        <p:blipFill>
          <a:blip r:embed="rId1"/>
          <a:stretch/>
        </p:blipFill>
        <p:spPr>
          <a:xfrm>
            <a:off x="1905120" y="2133720"/>
            <a:ext cx="5449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ine the Selection Sort algorithm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just develop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solv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problem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we obtain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refin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more detailed)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3" descr="QQ截图20121027004518.png"/>
          <p:cNvPicPr/>
          <p:nvPr/>
        </p:nvPicPr>
        <p:blipFill>
          <a:blip r:embed="rId1"/>
          <a:stretch/>
        </p:blipFill>
        <p:spPr>
          <a:xfrm>
            <a:off x="2362320" y="2895480"/>
            <a:ext cx="4362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Subproble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elements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[i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[min_j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3" descr="QQ截图20121027004640.png"/>
          <p:cNvPicPr/>
          <p:nvPr/>
        </p:nvPicPr>
        <p:blipFill>
          <a:blip r:embed="rId1"/>
          <a:stretch/>
        </p:blipFill>
        <p:spPr>
          <a:xfrm>
            <a:off x="1676520" y="2971800"/>
            <a:ext cx="5933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3-way exchange algorithm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e you hav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cu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ame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 som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qu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different kinds of liquid in different cups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3" descr="QQ截图20121027004749.png"/>
          <p:cNvPicPr/>
          <p:nvPr/>
        </p:nvPicPr>
        <p:blipFill>
          <a:blip r:embed="rId1"/>
          <a:stretch/>
        </p:blipFill>
        <p:spPr>
          <a:xfrm>
            <a:off x="1447920" y="3429000"/>
            <a:ext cx="6691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3-way exchange algorithm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3" descr="QQ截图20121027004834.png"/>
          <p:cNvPicPr/>
          <p:nvPr/>
        </p:nvPicPr>
        <p:blipFill>
          <a:blip r:embed="rId1"/>
          <a:stretch/>
        </p:blipFill>
        <p:spPr>
          <a:xfrm>
            <a:off x="790560" y="2211480"/>
            <a:ext cx="756288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3-way exchange algorithm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p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l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is will free up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p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p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p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p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the correct content and it will free up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p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l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p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p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the correct cont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so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c computer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 used 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rt an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sort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 be 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y data set where there is 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mong the data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3-way exchange algorithm (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QQ截图20121027005157.png"/>
          <p:cNvPicPr/>
          <p:nvPr/>
        </p:nvPicPr>
        <p:blipFill>
          <a:blip r:embed="rId1"/>
          <a:stretch/>
        </p:blipFill>
        <p:spPr>
          <a:xfrm>
            <a:off x="2590920" y="2209680"/>
            <a:ext cx="394632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Sort algorith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内容占位符 3" descr="QQ截图20121027005313.png"/>
          <p:cNvPicPr/>
          <p:nvPr/>
        </p:nvPicPr>
        <p:blipFill>
          <a:blip r:embed="rId1"/>
          <a:stretch/>
        </p:blipFill>
        <p:spPr>
          <a:xfrm>
            <a:off x="2362320" y="1981080"/>
            <a:ext cx="4376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Sor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gorith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 Ja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内容占位符 3" descr="QQ截图20121027005458.png"/>
          <p:cNvPicPr/>
          <p:nvPr/>
        </p:nvPicPr>
        <p:blipFill>
          <a:blip r:embed="rId1"/>
          <a:stretch/>
        </p:blipFill>
        <p:spPr>
          <a:xfrm>
            <a:off x="2590920" y="2133720"/>
            <a:ext cx="424152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is Si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内容占位符 3" descr="QQ截图20121027005637.png"/>
          <p:cNvPicPr/>
          <p:nvPr/>
        </p:nvPicPr>
        <p:blipFill>
          <a:blip r:embed="rId1"/>
          <a:stretch/>
        </p:blipFill>
        <p:spPr>
          <a:xfrm>
            <a:off x="1905120" y="2590920"/>
            <a:ext cx="577368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Computer Algorith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ing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f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lesh ou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stract ste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mak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ste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o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are given the following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 numb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6.4 2.5 1.2 2.2 1.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rt the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in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scending order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e., form the following seq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1.1 1.2 2.2 2.5 6.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the Algorithm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im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list of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3" descr="QQ截图20121027002043.png"/>
          <p:cNvPicPr/>
          <p:nvPr/>
        </p:nvPicPr>
        <p:blipFill>
          <a:blip r:embed="rId1"/>
          <a:stretch/>
        </p:blipFill>
        <p:spPr>
          <a:xfrm>
            <a:off x="2209680" y="2743200"/>
            <a:ext cx="5038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the Algorithm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e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teps ab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der of the 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t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ing each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3" descr="QQ截图20121027002227.png"/>
          <p:cNvPicPr/>
          <p:nvPr/>
        </p:nvPicPr>
        <p:blipFill>
          <a:blip r:embed="rId1"/>
          <a:stretch/>
        </p:blipFill>
        <p:spPr>
          <a:xfrm>
            <a:off x="2057400" y="2819520"/>
            <a:ext cx="5000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the Algorithm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内容占位符 3" descr="QQ截图20121027002340.png"/>
          <p:cNvPicPr/>
          <p:nvPr/>
        </p:nvPicPr>
        <p:blipFill>
          <a:blip r:embed="rId1"/>
          <a:stretch/>
        </p:blipFill>
        <p:spPr>
          <a:xfrm>
            <a:off x="1828800" y="2144880"/>
            <a:ext cx="54864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 code of 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Sor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gorithm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ing the val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l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array element with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alue among a[0], a[1], ..., a[n-1]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s element with a[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图片 4" descr="QQ截图20121027002718.png"/>
          <p:cNvPicPr/>
          <p:nvPr/>
        </p:nvPicPr>
        <p:blipFill>
          <a:blip r:embed="rId1"/>
          <a:stretch/>
        </p:blipFill>
        <p:spPr>
          <a:xfrm>
            <a:off x="2666880" y="3733920"/>
            <a:ext cx="35053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 code of 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Sor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gorithm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array element with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alue among a[1], ..., a[n-1]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s element with a[1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3" descr="QQ截图20121027002901.png"/>
          <p:cNvPicPr/>
          <p:nvPr/>
        </p:nvPicPr>
        <p:blipFill>
          <a:blip r:embed="rId1"/>
          <a:stretch/>
        </p:blipFill>
        <p:spPr>
          <a:xfrm>
            <a:off x="2743200" y="3352680"/>
            <a:ext cx="40194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 code of 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Sor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lgorithm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array element with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alue among a[2], ..., a[n-1]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s element with a[2]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o on (until w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ch the last ele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arr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4:13:21Z</dcterms:created>
  <dc:creator>chengzuo</dc:creator>
  <dc:description/>
  <dc:language>en-US</dc:language>
  <cp:lastModifiedBy>chengzuo</cp:lastModifiedBy>
  <dcterms:modified xsi:type="dcterms:W3CDTF">2012-10-27T04:59:41Z</dcterms:modified>
  <cp:revision>83</cp:revision>
  <dc:subject/>
  <dc:title>Sort an array - the selection sort algorithm</dc:title>
</cp:coreProperties>
</file>