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C138-2681-491E-8570-579D83AF50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AF1A0-42A0-4A18-9F57-B49CA9D9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8607-5A47-4002-977D-6002B546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EF73C-2B15-409F-8BED-50505FAA0F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98DE9-BDF1-4FEE-8146-E8AF8C5A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AB011-3EFA-4706-BD2E-1337C594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84A0E-09EE-40C9-B67A-B6A4A5F6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317D-5289-44C6-B6AB-418CBDA1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04DF-8B0E-4FE2-BC2C-637306DD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0C39-AFE3-4E8F-A97C-BF45DC3E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23B4-F95F-4007-ABB4-2EF2A4A8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E2B27-63CC-4EEE-8353-D38AE78B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BC010-FD9C-4C21-8EFF-447D5BBDB9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ray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red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must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p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rom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 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ly created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mak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 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int t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rays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119240" y="1697040"/>
            <a:ext cx="6902280" cy="4329000"/>
            <a:chOff x="1119240" y="1697040"/>
            <a:chExt cx="6902280" cy="432900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1119240" y="1697040"/>
              <a:ext cx="6902280" cy="43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119240" y="1697040"/>
              <a:ext cx="6902280" cy="43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rays 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047600" y="1682640"/>
            <a:ext cx="7045560" cy="4357800"/>
            <a:chOff x="1047600" y="1682640"/>
            <a:chExt cx="7045560" cy="435780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047600" y="1682640"/>
              <a:ext cx="7045560" cy="43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047600" y="1682640"/>
              <a:ext cx="7045560" cy="43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Array and Command Line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362320" y="1905120"/>
            <a:ext cx="4865400" cy="3647880"/>
            <a:chOff x="2362320" y="1905120"/>
            <a:chExt cx="4865400" cy="364788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2362320" y="1905120"/>
              <a:ext cx="4865400" cy="36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362320" y="1905120"/>
              <a:ext cx="4865400" cy="36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argument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is being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the com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1609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argument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133640" y="1725480"/>
            <a:ext cx="6873840" cy="4272120"/>
            <a:chOff x="1133640" y="1725480"/>
            <a:chExt cx="6873840" cy="427212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1133640" y="1725480"/>
              <a:ext cx="6873840" cy="42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133640" y="1725480"/>
              <a:ext cx="6873840" cy="42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arguments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514600" y="1981080"/>
            <a:ext cx="4464000" cy="3743280"/>
            <a:chOff x="2514600" y="1981080"/>
            <a:chExt cx="4464000" cy="374328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2514600" y="1981080"/>
              <a:ext cx="446400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514600" y="1981080"/>
              <a:ext cx="4464000" cy="37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arguments 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38280" y="1981080"/>
            <a:ext cx="4600800" cy="3267360"/>
            <a:chOff x="2438280" y="1981080"/>
            <a:chExt cx="4600800" cy="326736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2438280" y="1981080"/>
              <a:ext cx="4600800" cy="32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438280" y="1981080"/>
              <a:ext cx="4600800" cy="32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of cha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vice versa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04960" y="1711440"/>
            <a:ext cx="5730840" cy="4300560"/>
            <a:chOff x="1704960" y="1711440"/>
            <a:chExt cx="5730840" cy="43005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1704960" y="1711440"/>
              <a:ext cx="5730840" cy="43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704960" y="1711440"/>
              <a:ext cx="5730840" cy="43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of cha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vice versa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557360" y="1649520"/>
            <a:ext cx="6026040" cy="4424400"/>
            <a:chOff x="1557360" y="1649520"/>
            <a:chExt cx="6026040" cy="44244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1557360" y="1649520"/>
              <a:ext cx="6026040" cy="44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557360" y="1649520"/>
              <a:ext cx="6026040" cy="44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 Vari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each 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f thei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ependent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848400" cy="33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of cha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vice versa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124080" y="1600200"/>
            <a:ext cx="3081600" cy="4873680"/>
            <a:chOff x="3124080" y="1600200"/>
            <a:chExt cx="3081600" cy="48736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3124080" y="1600200"/>
              <a:ext cx="3081600" cy="48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124080" y="1600200"/>
              <a:ext cx="3081600" cy="48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133720" y="2819520"/>
            <a:ext cx="4911480" cy="1015920"/>
            <a:chOff x="2133720" y="2819520"/>
            <a:chExt cx="4911480" cy="10159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2133720" y="2819520"/>
              <a:ext cx="49114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133720" y="2819520"/>
              <a:ext cx="4911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7140600" cy="1195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76720" y="1447920"/>
            <a:ext cx="25588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ing an Array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43240" y="1600200"/>
            <a:ext cx="3002040" cy="5113440"/>
            <a:chOff x="3243240" y="1600200"/>
            <a:chExt cx="3002040" cy="51134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243240" y="1600200"/>
              <a:ext cx="300204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243240" y="1600200"/>
              <a:ext cx="3002040" cy="51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ing an Array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dentified by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[0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array 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is identified by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[0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a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i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ake a (true) 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ia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using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25048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ing an Array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123920" y="1782720"/>
            <a:ext cx="6892920" cy="4159440"/>
            <a:chOff x="1123920" y="1782720"/>
            <a:chExt cx="6892920" cy="415944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123920" y="1782720"/>
              <a:ext cx="6892920" cy="41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123920" y="1782720"/>
              <a:ext cx="6892920" cy="41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ing an Array 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c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array 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make i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t of array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ming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t-i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laim the memory c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d by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cess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s (= garb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33720" y="2522520"/>
            <a:ext cx="4952880" cy="31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ing an Array (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p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an 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mu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e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of the same size) using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p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p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e by 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rom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ing an Array (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352680" y="1447920"/>
            <a:ext cx="2754360" cy="5102280"/>
            <a:chOff x="3352680" y="1447920"/>
            <a:chExt cx="2754360" cy="510228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3352680" y="1447920"/>
              <a:ext cx="275436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352680" y="1447920"/>
              <a:ext cx="275436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ray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an array where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 array 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(fix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an array where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 array can b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4:24:32Z</dcterms:created>
  <dc:creator>chengzuo</dc:creator>
  <dc:description/>
  <dc:language>en-US</dc:language>
  <cp:lastModifiedBy>chengzuo</cp:lastModifiedBy>
  <dcterms:modified xsi:type="dcterms:W3CDTF">2012-10-26T16:05:15Z</dcterms:modified>
  <cp:revision>53</cp:revision>
  <dc:subject/>
  <dc:title>Arrays</dc:title>
</cp:coreProperties>
</file>