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8E01B-6828-444E-BD2E-4AC3C165C8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5214E-7984-4DB1-9DD2-AE369121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5BBF3-0C7C-46E4-8140-BD4478AA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A1153-D018-4D77-AB08-73FC5975A8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F91EC-A5A4-4A23-AA0F-75F6AF23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5D19B-78C5-4BE5-AAE0-773EFE80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6E51B-283E-4D54-8E47-0C69DE8E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DB9DB-590D-418E-925F-B2FAF59DA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82778-53C9-419F-B6A1-EC1A2F99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FC2EC-0C94-4F80-817E-CF940D3B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40BC0-7813-483D-AA5E-29143EFB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0C0BD-7A95-4C04-B3E8-921319C0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F25F53-92BE-4D4E-9D2E-D787255E731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fferent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d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variables in a Java progra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cope of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variables (1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4" name="Group 2"/>
          <p:cNvGrpSpPr/>
          <p:nvPr/>
        </p:nvGrpSpPr>
        <p:grpSpPr>
          <a:xfrm>
            <a:off x="1752480" y="1828800"/>
            <a:ext cx="5720040" cy="3249720"/>
            <a:chOff x="1752480" y="1828800"/>
            <a:chExt cx="5720040" cy="3249720"/>
          </a:xfrm>
        </p:grpSpPr>
        <p:pic>
          <p:nvPicPr>
            <p:cNvPr id="65" name="Picture 3" descr=""/>
            <p:cNvPicPr/>
            <p:nvPr/>
          </p:nvPicPr>
          <p:blipFill>
            <a:blip r:embed="rId1"/>
            <a:stretch/>
          </p:blipFill>
          <p:spPr>
            <a:xfrm>
              <a:off x="1752480" y="1828800"/>
              <a:ext cx="5720040" cy="32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4"/>
            <p:cNvSpPr/>
            <p:nvPr/>
          </p:nvSpPr>
          <p:spPr>
            <a:xfrm>
              <a:off x="1752480" y="1828800"/>
              <a:ext cx="5720040" cy="32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cope of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variables (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 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as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which it was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!!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5819760" cy="28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cope of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variables (3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1" name="Group 2"/>
          <p:cNvGrpSpPr/>
          <p:nvPr/>
        </p:nvGrpSpPr>
        <p:grpSpPr>
          <a:xfrm>
            <a:off x="3048120" y="1828800"/>
            <a:ext cx="3741480" cy="4041720"/>
            <a:chOff x="3048120" y="1828800"/>
            <a:chExt cx="3741480" cy="4041720"/>
          </a:xfrm>
        </p:grpSpPr>
        <p:pic>
          <p:nvPicPr>
            <p:cNvPr id="72" name="Picture 3" descr=""/>
            <p:cNvPicPr/>
            <p:nvPr/>
          </p:nvPicPr>
          <p:blipFill>
            <a:blip r:embed="rId1"/>
            <a:stretch/>
          </p:blipFill>
          <p:spPr>
            <a:xfrm>
              <a:off x="3048120" y="1828800"/>
              <a:ext cx="3741480" cy="40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4"/>
            <p:cNvSpPr/>
            <p:nvPr/>
          </p:nvSpPr>
          <p:spPr>
            <a:xfrm>
              <a:off x="3048120" y="1828800"/>
              <a:ext cx="3741480" cy="40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cope of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variables (4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n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defin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th th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m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na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ide th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m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scop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971800" y="2819520"/>
            <a:ext cx="32749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overlapping (or disjoint) scopes (1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joint scop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or more scop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 do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verlap with each oth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1981080" y="2743200"/>
            <a:ext cx="582948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overlapping (or disjoint) scopes (2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1339920" y="1600200"/>
            <a:ext cx="6462720" cy="4524480"/>
            <a:chOff x="1339920" y="1600200"/>
            <a:chExt cx="6462720" cy="452448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1339920" y="1600200"/>
              <a:ext cx="6462720" cy="45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4"/>
            <p:cNvSpPr/>
            <p:nvPr/>
          </p:nvSpPr>
          <p:spPr>
            <a:xfrm>
              <a:off x="1339920" y="1600200"/>
              <a:ext cx="6462720" cy="45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 rule for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ted scope (1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5" name="Group 2"/>
          <p:cNvGrpSpPr/>
          <p:nvPr/>
        </p:nvGrpSpPr>
        <p:grpSpPr>
          <a:xfrm>
            <a:off x="1905120" y="2057400"/>
            <a:ext cx="5827680" cy="3112920"/>
            <a:chOff x="1905120" y="2057400"/>
            <a:chExt cx="5827680" cy="3112920"/>
          </a:xfrm>
        </p:grpSpPr>
        <p:pic>
          <p:nvPicPr>
            <p:cNvPr id="86" name="Picture 3" descr=""/>
            <p:cNvPicPr/>
            <p:nvPr/>
          </p:nvPicPr>
          <p:blipFill>
            <a:blip r:embed="rId1"/>
            <a:stretch/>
          </p:blipFill>
          <p:spPr>
            <a:xfrm>
              <a:off x="1905120" y="2057400"/>
              <a:ext cx="5827680" cy="31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4"/>
            <p:cNvSpPr/>
            <p:nvPr/>
          </p:nvSpPr>
          <p:spPr>
            <a:xfrm>
              <a:off x="1905120" y="2057400"/>
              <a:ext cx="5827680" cy="31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 rule for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ted scope (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9" name="Group 2"/>
          <p:cNvGrpSpPr/>
          <p:nvPr/>
        </p:nvGrpSpPr>
        <p:grpSpPr>
          <a:xfrm>
            <a:off x="1752480" y="2209680"/>
            <a:ext cx="6228000" cy="3103560"/>
            <a:chOff x="1752480" y="2209680"/>
            <a:chExt cx="6228000" cy="3103560"/>
          </a:xfrm>
        </p:grpSpPr>
        <p:pic>
          <p:nvPicPr>
            <p:cNvPr id="90" name="Picture 3" descr=""/>
            <p:cNvPicPr/>
            <p:nvPr/>
          </p:nvPicPr>
          <p:blipFill>
            <a:blip r:embed="rId1"/>
            <a:stretch/>
          </p:blipFill>
          <p:spPr>
            <a:xfrm>
              <a:off x="1752480" y="2209680"/>
              <a:ext cx="6228000" cy="31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4"/>
            <p:cNvSpPr/>
            <p:nvPr/>
          </p:nvSpPr>
          <p:spPr>
            <a:xfrm>
              <a:off x="1752480" y="2209680"/>
              <a:ext cx="6228000" cy="31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Variables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variables (1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stor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 is being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from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 of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thod c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nt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 i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53722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fferent kinds of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a Java program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has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fferent ki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iabl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nst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iabl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oc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iabl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aramet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termin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ther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word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as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defin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variables (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98" name="Group 2"/>
          <p:cNvGrpSpPr/>
          <p:nvPr/>
        </p:nvGrpSpPr>
        <p:grpSpPr>
          <a:xfrm>
            <a:off x="1600200" y="2057400"/>
            <a:ext cx="5837400" cy="3027240"/>
            <a:chOff x="1600200" y="2057400"/>
            <a:chExt cx="5837400" cy="3027240"/>
          </a:xfrm>
        </p:grpSpPr>
        <p:pic>
          <p:nvPicPr>
            <p:cNvPr id="99" name="Picture 3" descr=""/>
            <p:cNvPicPr/>
            <p:nvPr/>
          </p:nvPicPr>
          <p:blipFill>
            <a:blip r:embed="rId1"/>
            <a:stretch/>
          </p:blipFill>
          <p:spPr>
            <a:xfrm>
              <a:off x="1600200" y="2057400"/>
              <a:ext cx="5837400" cy="30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4"/>
            <p:cNvSpPr/>
            <p:nvPr/>
          </p:nvSpPr>
          <p:spPr>
            <a:xfrm>
              <a:off x="1600200" y="2057400"/>
              <a:ext cx="5837400" cy="30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variables (3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02" name="Group 2"/>
          <p:cNvGrpSpPr/>
          <p:nvPr/>
        </p:nvGrpSpPr>
        <p:grpSpPr>
          <a:xfrm>
            <a:off x="1297080" y="1600200"/>
            <a:ext cx="6548400" cy="4524480"/>
            <a:chOff x="1297080" y="1600200"/>
            <a:chExt cx="6548400" cy="4524480"/>
          </a:xfrm>
        </p:grpSpPr>
        <p:pic>
          <p:nvPicPr>
            <p:cNvPr id="103" name="Picture 3" descr=""/>
            <p:cNvPicPr/>
            <p:nvPr/>
          </p:nvPicPr>
          <p:blipFill>
            <a:blip r:embed="rId1"/>
            <a:stretch/>
          </p:blipFill>
          <p:spPr>
            <a:xfrm>
              <a:off x="1297080" y="1600200"/>
              <a:ext cx="6548400" cy="45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4"/>
            <p:cNvSpPr/>
            <p:nvPr/>
          </p:nvSpPr>
          <p:spPr>
            <a:xfrm>
              <a:off x="1297080" y="1600200"/>
              <a:ext cx="6548400" cy="45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ng 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variables (1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side 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acke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...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 of a metho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6172200" cy="33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ng 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variables (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09" name="Group 2"/>
          <p:cNvGrpSpPr/>
          <p:nvPr/>
        </p:nvGrpSpPr>
        <p:grpSpPr>
          <a:xfrm>
            <a:off x="914400" y="2286000"/>
            <a:ext cx="3230640" cy="3198960"/>
            <a:chOff x="914400" y="2286000"/>
            <a:chExt cx="3230640" cy="3198960"/>
          </a:xfrm>
        </p:grpSpPr>
        <p:pic>
          <p:nvPicPr>
            <p:cNvPr id="110" name="Picture 3" descr=""/>
            <p:cNvPicPr/>
            <p:nvPr/>
          </p:nvPicPr>
          <p:blipFill>
            <a:blip r:embed="rId1"/>
            <a:stretch/>
          </p:blipFill>
          <p:spPr>
            <a:xfrm>
              <a:off x="914400" y="2286000"/>
              <a:ext cx="323064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4"/>
            <p:cNvSpPr/>
            <p:nvPr/>
          </p:nvSpPr>
          <p:spPr>
            <a:xfrm>
              <a:off x="914400" y="2286000"/>
              <a:ext cx="3230640" cy="319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5181480" y="2133720"/>
            <a:ext cx="3200400" cy="36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fe tim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parameter variables (1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fe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a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ire bod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ha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like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 i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t 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 metho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0" y="3657600"/>
            <a:ext cx="4600440" cy="2838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4572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fe tim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parameter variables (2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n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defin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th th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m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na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ide an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co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side an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n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cop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you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define a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ca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side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has th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m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s a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amete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1371600" y="3505320"/>
            <a:ext cx="6572160" cy="31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Variables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Variables (1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used to stor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ter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 are used by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n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different 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the progra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ubl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cce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w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ti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s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{ ... 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uts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{ ... 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    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Variables (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25" name="Group 2"/>
          <p:cNvGrpSpPr/>
          <p:nvPr/>
        </p:nvGrpSpPr>
        <p:grpSpPr>
          <a:xfrm>
            <a:off x="1538280" y="1728720"/>
            <a:ext cx="6066000" cy="4265640"/>
            <a:chOff x="1538280" y="1728720"/>
            <a:chExt cx="6066000" cy="4265640"/>
          </a:xfrm>
        </p:grpSpPr>
        <p:pic>
          <p:nvPicPr>
            <p:cNvPr id="126" name="Picture 3" descr=""/>
            <p:cNvPicPr/>
            <p:nvPr/>
          </p:nvPicPr>
          <p:blipFill>
            <a:blip r:embed="rId1"/>
            <a:stretch/>
          </p:blipFill>
          <p:spPr>
            <a:xfrm>
              <a:off x="1538280" y="1728720"/>
              <a:ext cx="6066000" cy="426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4"/>
            <p:cNvSpPr/>
            <p:nvPr/>
          </p:nvSpPr>
          <p:spPr>
            <a:xfrm>
              <a:off x="1538280" y="1728720"/>
              <a:ext cx="6066000" cy="42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in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 class variable (1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sing it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nameOf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OfClassVariab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2666880" y="3352680"/>
            <a:ext cx="4267440" cy="25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of variables (1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has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per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fe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u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g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pro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here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ible (can be used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in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 class variable (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defined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ide 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sing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na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2590920" y="2819520"/>
            <a:ext cx="439416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fe tim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(public) class variables (1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exist for 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tire exec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progra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r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very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cla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2438280" y="2971800"/>
            <a:ext cx="43815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fe tim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(public) class variables (2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has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r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qu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the name of the class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th 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an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 long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ith 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h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no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sco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!!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fe tim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(public) class variables (3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40" name="Group 2"/>
          <p:cNvGrpSpPr/>
          <p:nvPr/>
        </p:nvGrpSpPr>
        <p:grpSpPr>
          <a:xfrm>
            <a:off x="2590920" y="1828800"/>
            <a:ext cx="4302000" cy="4711680"/>
            <a:chOff x="2590920" y="1828800"/>
            <a:chExt cx="4302000" cy="4711680"/>
          </a:xfrm>
        </p:grpSpPr>
        <p:pic>
          <p:nvPicPr>
            <p:cNvPr id="141" name="Picture 3" descr=""/>
            <p:cNvPicPr/>
            <p:nvPr/>
          </p:nvPicPr>
          <p:blipFill>
            <a:blip r:embed="rId1"/>
            <a:stretch/>
          </p:blipFill>
          <p:spPr>
            <a:xfrm>
              <a:off x="2590920" y="1828800"/>
              <a:ext cx="4302000" cy="471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4"/>
            <p:cNvSpPr/>
            <p:nvPr/>
          </p:nvSpPr>
          <p:spPr>
            <a:xfrm>
              <a:off x="2590920" y="1828800"/>
              <a:ext cx="4302000" cy="47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of variables (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ccommodat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nee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or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e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formation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need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e retained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 (one)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e call this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information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e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formation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ust b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a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ro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everal metho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variables (1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stor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 i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vant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du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 execution of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n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metho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l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will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as long as the 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in which they have been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re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is still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unn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soon as the 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rminat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i.e., return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ll 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cal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defined inside the method ar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stroy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variables (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s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d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1828800" y="2590920"/>
            <a:ext cx="569592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variables (3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5" name="Group 2"/>
          <p:cNvGrpSpPr/>
          <p:nvPr/>
        </p:nvGrpSpPr>
        <p:grpSpPr>
          <a:xfrm>
            <a:off x="3505320" y="1143000"/>
            <a:ext cx="2334960" cy="5524560"/>
            <a:chOff x="3505320" y="1143000"/>
            <a:chExt cx="2334960" cy="5524560"/>
          </a:xfrm>
        </p:grpSpPr>
        <p:pic>
          <p:nvPicPr>
            <p:cNvPr id="56" name="Picture 3" descr=""/>
            <p:cNvPicPr/>
            <p:nvPr/>
          </p:nvPicPr>
          <p:blipFill>
            <a:blip r:embed="rId1"/>
            <a:stretch/>
          </p:blipFill>
          <p:spPr>
            <a:xfrm>
              <a:off x="3505320" y="1143000"/>
              <a:ext cx="2334960" cy="552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4"/>
            <p:cNvSpPr/>
            <p:nvPr/>
          </p:nvSpPr>
          <p:spPr>
            <a:xfrm>
              <a:off x="3505320" y="1143000"/>
              <a:ext cx="2334960" cy="552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variables (4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exist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twe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variab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d of the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here 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variable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defin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514600" y="3733920"/>
            <a:ext cx="462924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a variab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co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a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g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here th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cessib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location abo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ther limi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y the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l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which it is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4:21:27Z</dcterms:created>
  <dc:creator>chengzuo</dc:creator>
  <dc:description/>
  <dc:language>en-US</dc:language>
  <cp:lastModifiedBy>chengzuo</cp:lastModifiedBy>
  <dcterms:modified xsi:type="dcterms:W3CDTF">2013-03-01T16:37:42Z</dcterms:modified>
  <cp:revision>103</cp:revision>
  <dc:subject/>
  <dc:title>The different kinds of variables in a Java program</dc:title>
</cp:coreProperties>
</file>