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098FD1-E823-441A-874B-58BDAF7D47A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262BA2-22F1-45D2-A572-05D5562CB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5EF0C3-4A16-4899-ADC0-8584920D1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730983-E0CF-4D52-85FA-9C2B4F62379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9B2440-6B5C-44F0-B677-AD0901030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BF008C-79B4-4033-95BC-49C52CBD2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E4F156-799A-48BA-A380-5BA48FBE9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9A8C8D-32F1-4A3A-A354-00E86A142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CC7916-5746-4FA2-8C1B-66375C8EC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B36408-C62D-4392-8C67-79DC47182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0CA18C-6E02-47AB-9F56-2229EA090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C84341-89F0-4002-8C3C-835917F8C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4360"/>
            <a:ext cx="2131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4360"/>
            <a:ext cx="2132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036984-B68E-4028-A290-96CC572B549F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ys 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Text Box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types of array object reference variables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fact, you can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e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[ ]"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o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n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data typ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ouble[]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= a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of this type contains an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re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of an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y of double variabl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nt[]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= a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of this type contains an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re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of an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y of int variabl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oolean[]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= a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of this type contains an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re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of an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y of boolean variabl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c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 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operator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typ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th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va's built-in typ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are known as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bject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typ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use an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yp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or an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yp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with 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 operator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1" name="Picture 3" descr=""/>
          <p:cNvPicPr/>
          <p:nvPr/>
        </p:nvPicPr>
        <p:blipFill>
          <a:blip r:embed="rId1"/>
          <a:stretch/>
        </p:blipFill>
        <p:spPr>
          <a:xfrm>
            <a:off x="2743200" y="4114800"/>
            <a:ext cx="3876840" cy="175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rter forms of array definition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73" name="Group 2"/>
          <p:cNvGrpSpPr/>
          <p:nvPr/>
        </p:nvGrpSpPr>
        <p:grpSpPr>
          <a:xfrm>
            <a:off x="1247760" y="2149560"/>
            <a:ext cx="6647040" cy="3425760"/>
            <a:chOff x="1247760" y="2149560"/>
            <a:chExt cx="6647040" cy="3425760"/>
          </a:xfrm>
        </p:grpSpPr>
        <p:pic>
          <p:nvPicPr>
            <p:cNvPr id="74" name="Picture 3" descr=""/>
            <p:cNvPicPr/>
            <p:nvPr/>
          </p:nvPicPr>
          <p:blipFill>
            <a:blip r:embed="rId1"/>
            <a:stretch/>
          </p:blipFill>
          <p:spPr>
            <a:xfrm>
              <a:off x="1247760" y="2149560"/>
              <a:ext cx="6647040" cy="342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Text Box 4"/>
            <p:cNvSpPr/>
            <p:nvPr/>
          </p:nvSpPr>
          <p:spPr>
            <a:xfrm>
              <a:off x="1247760" y="2149560"/>
              <a:ext cx="6647040" cy="342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1"/>
          <p:cNvSpPr/>
          <p:nvPr/>
        </p:nvSpPr>
        <p:spPr>
          <a:xfrm>
            <a:off x="457200" y="190440"/>
            <a:ext cx="8229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initial values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e array element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77" name="Group 2"/>
          <p:cNvGrpSpPr/>
          <p:nvPr/>
        </p:nvGrpSpPr>
        <p:grpSpPr>
          <a:xfrm>
            <a:off x="1219320" y="2743200"/>
            <a:ext cx="7316640" cy="2039760"/>
            <a:chOff x="1219320" y="2743200"/>
            <a:chExt cx="7316640" cy="2039760"/>
          </a:xfrm>
        </p:grpSpPr>
        <p:pic>
          <p:nvPicPr>
            <p:cNvPr id="78" name="Picture 3" descr=""/>
            <p:cNvPicPr/>
            <p:nvPr/>
          </p:nvPicPr>
          <p:blipFill>
            <a:blip r:embed="rId1"/>
            <a:stretch/>
          </p:blipFill>
          <p:spPr>
            <a:xfrm>
              <a:off x="1219320" y="2743200"/>
              <a:ext cx="7316640" cy="20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Text Box 4"/>
            <p:cNvSpPr/>
            <p:nvPr/>
          </p:nvSpPr>
          <p:spPr>
            <a:xfrm>
              <a:off x="1219320" y="2743200"/>
              <a:ext cx="7316640" cy="20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ing 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itialize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arra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Text Box 2"/>
          <p:cNvSpPr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 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for defining an 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itialized array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is: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eng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of the array is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utomatically) determin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by 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mber of valu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in the list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is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 2 step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syntax to define an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itialize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array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o no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nd cannot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use the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ew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operat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in the definition of an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itialize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array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2" name="Picture 3" descr=""/>
          <p:cNvPicPr/>
          <p:nvPr/>
        </p:nvPicPr>
        <p:blipFill>
          <a:blip r:embed="rId1"/>
          <a:stretch/>
        </p:blipFill>
        <p:spPr>
          <a:xfrm>
            <a:off x="2133720" y="2286000"/>
            <a:ext cx="4981320" cy="5144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2590920" y="3352680"/>
            <a:ext cx="4029120" cy="54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ing the elements in an array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85" name="Group 2"/>
          <p:cNvGrpSpPr/>
          <p:nvPr/>
        </p:nvGrpSpPr>
        <p:grpSpPr>
          <a:xfrm>
            <a:off x="1576440" y="1709640"/>
            <a:ext cx="5989680" cy="4303800"/>
            <a:chOff x="1576440" y="1709640"/>
            <a:chExt cx="5989680" cy="4303800"/>
          </a:xfrm>
        </p:grpSpPr>
        <p:pic>
          <p:nvPicPr>
            <p:cNvPr id="86" name="Picture 3" descr=""/>
            <p:cNvPicPr/>
            <p:nvPr/>
          </p:nvPicPr>
          <p:blipFill>
            <a:blip r:embed="rId1"/>
            <a:stretch/>
          </p:blipFill>
          <p:spPr>
            <a:xfrm>
              <a:off x="1576440" y="1709640"/>
              <a:ext cx="5989680" cy="430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4"/>
            <p:cNvSpPr/>
            <p:nvPr/>
          </p:nvSpPr>
          <p:spPr>
            <a:xfrm>
              <a:off x="1576440" y="1709640"/>
              <a:ext cx="5989680" cy="43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 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y length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ngth (information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of 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y 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use 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.length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0" name="Picture 3" descr=""/>
          <p:cNvPicPr/>
          <p:nvPr/>
        </p:nvPicPr>
        <p:blipFill>
          <a:blip r:embed="rId1"/>
          <a:stretch/>
        </p:blipFill>
        <p:spPr>
          <a:xfrm>
            <a:off x="1600200" y="3124080"/>
            <a:ext cx="5943600" cy="306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ute Force Search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ntrast,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ute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are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um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and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a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r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insta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of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ll possibl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solution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insta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erform 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ired task (e.g., determine if it is the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solution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on that instance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"/>
          <p:cNvSpPr/>
          <p:nvPr/>
        </p:nvSpPr>
        <p:spPr>
          <a:xfrm>
            <a:off x="457200" y="190440"/>
            <a:ext cx="8229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Printing all elements in an array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94" name="Group 2"/>
          <p:cNvGrpSpPr/>
          <p:nvPr/>
        </p:nvGrpSpPr>
        <p:grpSpPr>
          <a:xfrm>
            <a:off x="1828800" y="1828800"/>
            <a:ext cx="5464080" cy="4524480"/>
            <a:chOff x="1828800" y="1828800"/>
            <a:chExt cx="5464080" cy="4524480"/>
          </a:xfrm>
        </p:grpSpPr>
        <p:pic>
          <p:nvPicPr>
            <p:cNvPr id="95" name="Picture 3" descr=""/>
            <p:cNvPicPr/>
            <p:nvPr/>
          </p:nvPicPr>
          <p:blipFill>
            <a:blip r:embed="rId1"/>
            <a:stretch/>
          </p:blipFill>
          <p:spPr>
            <a:xfrm>
              <a:off x="1828800" y="1828800"/>
              <a:ext cx="5464080" cy="452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Text Box 4"/>
            <p:cNvSpPr/>
            <p:nvPr/>
          </p:nvSpPr>
          <p:spPr>
            <a:xfrm>
              <a:off x="1828800" y="1828800"/>
              <a:ext cx="5464080" cy="452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-statement and arra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va extended its synta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o allow you to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the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y index vari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nsi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-statemen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9" name="Picture 3" descr=""/>
          <p:cNvPicPr/>
          <p:nvPr/>
        </p:nvPicPr>
        <p:blipFill>
          <a:blip r:embed="rId1"/>
          <a:stretch/>
        </p:blipFill>
        <p:spPr>
          <a:xfrm>
            <a:off x="2252520" y="2486160"/>
            <a:ext cx="4638960" cy="18856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"/>
          <p:cNvPicPr/>
          <p:nvPr/>
        </p:nvPicPr>
        <p:blipFill>
          <a:blip r:embed="rId2"/>
          <a:stretch/>
        </p:blipFill>
        <p:spPr>
          <a:xfrm>
            <a:off x="1600200" y="4724280"/>
            <a:ext cx="5927760" cy="166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y Data Structure (1)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ry oft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uter progra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is used to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ss a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 amoun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of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imilar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tructur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kind of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ganized dat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is called an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rra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data structur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tretch/>
        </p:blipFill>
        <p:spPr>
          <a:xfrm>
            <a:off x="2514600" y="3581280"/>
            <a:ext cx="4038480" cy="262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alize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for-statemen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02" name="Group 2"/>
          <p:cNvGrpSpPr/>
          <p:nvPr/>
        </p:nvGrpSpPr>
        <p:grpSpPr>
          <a:xfrm>
            <a:off x="1752480" y="1219320"/>
            <a:ext cx="5732640" cy="1703160"/>
            <a:chOff x="1752480" y="1219320"/>
            <a:chExt cx="5732640" cy="1703160"/>
          </a:xfrm>
        </p:grpSpPr>
        <p:pic>
          <p:nvPicPr>
            <p:cNvPr id="103" name="Picture 3" descr=""/>
            <p:cNvPicPr/>
            <p:nvPr/>
          </p:nvPicPr>
          <p:blipFill>
            <a:blip r:embed="rId1"/>
            <a:stretch/>
          </p:blipFill>
          <p:spPr>
            <a:xfrm>
              <a:off x="1752480" y="1219320"/>
              <a:ext cx="5732640" cy="170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Text Box 4"/>
            <p:cNvSpPr/>
            <p:nvPr/>
          </p:nvSpPr>
          <p:spPr>
            <a:xfrm>
              <a:off x="1752480" y="1219320"/>
              <a:ext cx="5732640" cy="170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pic>
        <p:nvPicPr>
          <p:cNvPr id="105" name="Picture 5" descr=""/>
          <p:cNvPicPr/>
          <p:nvPr/>
        </p:nvPicPr>
        <p:blipFill>
          <a:blip r:embed="rId2"/>
          <a:stretch/>
        </p:blipFill>
        <p:spPr>
          <a:xfrm>
            <a:off x="1905120" y="2895480"/>
            <a:ext cx="5429160" cy="396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1"/>
          <p:cNvSpPr/>
          <p:nvPr/>
        </p:nvSpPr>
        <p:spPr>
          <a:xfrm>
            <a:off x="457200" y="45720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Computing the sum of the elements in an array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1600200" y="1828800"/>
            <a:ext cx="571500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"/>
          <p:cNvSpPr/>
          <p:nvPr/>
        </p:nvSpPr>
        <p:spPr>
          <a:xfrm>
            <a:off x="228600" y="45720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ind the minimum value in the elements of an array 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1600200" y="1371600"/>
            <a:ext cx="6492960" cy="478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y Data Structure (2)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is a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lec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(multiple) of variabl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where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vari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in 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lec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is of the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data typ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ar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ced (stored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ecutivel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in memory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8" name="Picture 3" descr=""/>
          <p:cNvPicPr/>
          <p:nvPr/>
        </p:nvPicPr>
        <p:blipFill>
          <a:blip r:embed="rId1"/>
          <a:stretch/>
        </p:blipFill>
        <p:spPr>
          <a:xfrm>
            <a:off x="1371600" y="3048120"/>
            <a:ext cx="5943600" cy="361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ies of Arrays (1)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contains a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ixe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number element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ng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of the array =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mber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ele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in the array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 can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ng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when you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re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y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y ele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is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ntifi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by an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ndex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ele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of an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has the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ndex 0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ies of Arrays (2)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we know 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cation of the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ele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of an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we can locat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y other element of the arra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hrough its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ex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e Addre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of an array = 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re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of 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ele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the array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3" name="Picture 3" descr=""/>
          <p:cNvPicPr/>
          <p:nvPr/>
        </p:nvPicPr>
        <p:blipFill>
          <a:blip r:embed="rId1"/>
          <a:stretch/>
        </p:blipFill>
        <p:spPr>
          <a:xfrm>
            <a:off x="2362320" y="3276720"/>
            <a:ext cx="4724280" cy="338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ing an 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y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in Java (1)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p 1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efine a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o store 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cation of the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ele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of the array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is called an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rray) object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ferenc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variabl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p 2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reate the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rra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and store 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cation of the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ele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of the array in 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rray) object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ferenc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variabl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ing an 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y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in Java (2)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57" name="Group 2"/>
          <p:cNvGrpSpPr/>
          <p:nvPr/>
        </p:nvGrpSpPr>
        <p:grpSpPr>
          <a:xfrm>
            <a:off x="2514600" y="1752480"/>
            <a:ext cx="4734000" cy="4330800"/>
            <a:chOff x="2514600" y="1752480"/>
            <a:chExt cx="4734000" cy="4330800"/>
          </a:xfrm>
        </p:grpSpPr>
        <p:pic>
          <p:nvPicPr>
            <p:cNvPr id="58" name="Picture 3" descr=""/>
            <p:cNvPicPr/>
            <p:nvPr/>
          </p:nvPicPr>
          <p:blipFill>
            <a:blip r:embed="rId1"/>
            <a:stretch/>
          </p:blipFill>
          <p:spPr>
            <a:xfrm>
              <a:off x="2514600" y="1752480"/>
              <a:ext cx="4734000" cy="43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Text Box 4"/>
            <p:cNvSpPr/>
            <p:nvPr/>
          </p:nvSpPr>
          <p:spPr>
            <a:xfrm>
              <a:off x="2514600" y="1752480"/>
              <a:ext cx="4734000" cy="433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ing an 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y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in Java (3)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61" name="Group 2"/>
          <p:cNvGrpSpPr/>
          <p:nvPr/>
        </p:nvGrpSpPr>
        <p:grpSpPr>
          <a:xfrm>
            <a:off x="1752480" y="2209680"/>
            <a:ext cx="5599080" cy="2541600"/>
            <a:chOff x="1752480" y="2209680"/>
            <a:chExt cx="5599080" cy="2541600"/>
          </a:xfrm>
        </p:grpSpPr>
        <p:pic>
          <p:nvPicPr>
            <p:cNvPr id="62" name="Picture 3" descr=""/>
            <p:cNvPicPr/>
            <p:nvPr/>
          </p:nvPicPr>
          <p:blipFill>
            <a:blip r:embed="rId1"/>
            <a:stretch/>
          </p:blipFill>
          <p:spPr>
            <a:xfrm>
              <a:off x="1752480" y="2209680"/>
              <a:ext cx="5599080" cy="254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Text Box 4"/>
            <p:cNvSpPr/>
            <p:nvPr/>
          </p:nvSpPr>
          <p:spPr>
            <a:xfrm>
              <a:off x="1752480" y="2209680"/>
              <a:ext cx="5599080" cy="254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data type double[]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 must read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[]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as a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whole wor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not read it a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]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[] typed vari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contains the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re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of 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 of an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of double variabl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2133720" y="3352680"/>
            <a:ext cx="5330880" cy="3124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4T13:45:47Z</dcterms:created>
  <dc:creator>chengzuo</dc:creator>
  <dc:description/>
  <dc:language>en-US</dc:language>
  <cp:lastModifiedBy>chengzuo</cp:lastModifiedBy>
  <dcterms:modified xsi:type="dcterms:W3CDTF">2013-03-06T14:20:26Z</dcterms:modified>
  <cp:revision>70</cp:revision>
  <dc:subject/>
  <dc:title>Arrays</dc:title>
</cp:coreProperties>
</file>