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3DB4-5729-4C1A-8647-570BA9131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601F-DFFC-440B-A0EA-C20619F9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7BD5-431A-4114-96AF-DED5F11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2A12-F61B-43A8-BBB2-A45FDAA694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8068-D236-4910-844E-CD8B8866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8063-9A31-41E6-9738-756D22E1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E851-1E15-46DE-B40E-CE169AD3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3D5D-DE5D-4767-9116-087235C1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0B29-E094-4D07-8890-C252F77C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F5F9-36F5-43F8-BA2B-48BD7F89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B832-9E66-4DD4-812D-9685F31D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E40E-32B4-4D9B-99BD-57F43A2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3BF3C7-BBEE-40A2-ABD7-EAEE4238C7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: user-defined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ored inside an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300320" y="1814400"/>
            <a:ext cx="6541920" cy="4094280"/>
            <a:chOff x="1300320" y="1814400"/>
            <a:chExt cx="6541920" cy="40942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1300320" y="1814400"/>
              <a:ext cx="6541920" cy="40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300320" y="1814400"/>
              <a:ext cx="6541920" cy="40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tored inside an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362320" y="1676520"/>
            <a:ext cx="4494240" cy="4976640"/>
            <a:chOff x="2362320" y="1676520"/>
            <a:chExt cx="4494240" cy="497664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2362320" y="1676520"/>
              <a:ext cx="4494240" cy="49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362320" y="1676520"/>
              <a:ext cx="4494240" cy="49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2746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ility rule for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controlled by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ces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modifier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 can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 method insid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can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in a method inside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time of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00320" y="1814400"/>
            <a:ext cx="6541920" cy="4094280"/>
            <a:chOff x="1300320" y="1814400"/>
            <a:chExt cx="6541920" cy="40942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300320" y="1814400"/>
              <a:ext cx="6541920" cy="40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300320" y="1814400"/>
              <a:ext cx="6541920" cy="40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time of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se to ex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fter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arbage coll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d exe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85920" y="1380960"/>
            <a:ext cx="6257880" cy="39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using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variab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equivalent to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25909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using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variab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access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mory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86728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the values of a variable inside an obj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76720" y="1600200"/>
            <a:ext cx="2644560" cy="5256360"/>
            <a:chOff x="3276720" y="1600200"/>
            <a:chExt cx="2644560" cy="525636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3276720" y="1600200"/>
              <a:ext cx="264456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76720" y="1600200"/>
              <a:ext cx="26445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ing method with a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comput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The Scann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ing information with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 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belong to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ent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47703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different ki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met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2800440" cy="1781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52720" y="4809960"/>
            <a:ext cx="299088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1990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ance variables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efine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m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efine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very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at cl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efined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ing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yword st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0384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object in Java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store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257800" cy="14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81080" y="4800600"/>
            <a:ext cx="523872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object in Java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19120" y="1843200"/>
            <a:ext cx="6303960" cy="4037040"/>
            <a:chOff x="1419120" y="1843200"/>
            <a:chExt cx="6303960" cy="40370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419120" y="1843200"/>
              <a:ext cx="6303960" cy="40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419120" y="1843200"/>
              <a:ext cx="6303960" cy="40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object in Java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185840" y="1747800"/>
            <a:ext cx="6770880" cy="4227480"/>
            <a:chOff x="1185840" y="1747800"/>
            <a:chExt cx="6770880" cy="42274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1185840" y="1747800"/>
              <a:ext cx="6770880" cy="42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185840" y="1747800"/>
              <a:ext cx="6770880" cy="42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23:40:46Z</dcterms:created>
  <dc:creator>chengzuo</dc:creator>
  <dc:description/>
  <dc:language>en-US</dc:language>
  <cp:lastModifiedBy>chengzuo</cp:lastModifiedBy>
  <dcterms:modified xsi:type="dcterms:W3CDTF">2012-11-07T03:21:30Z</dcterms:modified>
  <cp:revision>68</cp:revision>
  <dc:subject/>
  <dc:title>Classes: user-defined types</dc:title>
</cp:coreProperties>
</file>