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109-C142-4D4B-82AC-25491595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115-659C-4CE9-BC08-BDF1B9EB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401-8B85-4271-B660-EF3D14A6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CA1-CEE9-4449-9170-7F4478C4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C11-07B2-46E3-9D9B-18960283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B09-947F-4B78-AFB1-131B5FBA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335-1F37-418E-B549-0723769E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77C-762F-4EFD-A806-21DED78C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FFA-E42C-4361-AE50-102E74D9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737-52B6-436F-8AB5-9C2A5D98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C5C-DAF7-4AD3-B704-5DFDF037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9F5-4CB9-45AC-B423-C6EC72D7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EE4F-4A6F-4587-A10A-91B0619508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Hiding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"/>
          <p:cNvGrpSpPr/>
          <p:nvPr/>
        </p:nvGrpSpPr>
        <p:grpSpPr>
          <a:xfrm>
            <a:off x="1886040" y="1778040"/>
            <a:ext cx="5370480" cy="4168800"/>
            <a:chOff x="1886040" y="1778040"/>
            <a:chExt cx="5370480" cy="4168800"/>
          </a:xfrm>
        </p:grpSpPr>
        <p:pic>
          <p:nvPicPr>
            <p:cNvPr id="66" name="Picture 3" descr=""/>
            <p:cNvPicPr/>
            <p:nvPr/>
          </p:nvPicPr>
          <p:blipFill>
            <a:blip r:embed="rId1"/>
            <a:stretch/>
          </p:blipFill>
          <p:spPr>
            <a:xfrm>
              <a:off x="1886040" y="1778040"/>
              <a:ext cx="537048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4"/>
            <p:cNvSpPr/>
            <p:nvPr/>
          </p:nvSpPr>
          <p:spPr>
            <a:xfrm>
              <a:off x="1886040" y="1778040"/>
              <a:ext cx="5370480" cy="41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a Complex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in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图片 3" descr="module01.gif"/>
          <p:cNvPicPr/>
          <p:nvPr/>
        </p:nvPicPr>
        <p:blipFill>
          <a:blip r:embed="rId1"/>
          <a:stretch/>
        </p:blipFill>
        <p:spPr>
          <a:xfrm>
            <a:off x="762120" y="2514600"/>
            <a:ext cx="7362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r Program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r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ology goe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ur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mple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probl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hould b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ig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r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per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be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olved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ogram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es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penden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 each 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qu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mp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 the 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mplexity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as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Hiding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1081080" y="1839960"/>
            <a:ext cx="6980400" cy="4046400"/>
            <a:chOff x="1081080" y="1839960"/>
            <a:chExt cx="6980400" cy="4046400"/>
          </a:xfrm>
        </p:grpSpPr>
        <p:pic>
          <p:nvPicPr>
            <p:cNvPr id="54" name="Picture 3" descr=""/>
            <p:cNvPicPr/>
            <p:nvPr/>
          </p:nvPicPr>
          <p:blipFill>
            <a:blip r:embed="rId1"/>
            <a:stretch/>
          </p:blipFill>
          <p:spPr>
            <a:xfrm>
              <a:off x="1081080" y="1839960"/>
              <a:ext cx="6980400" cy="40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4"/>
            <p:cNvSpPr/>
            <p:nvPr/>
          </p:nvSpPr>
          <p:spPr>
            <a:xfrm>
              <a:off x="1081080" y="1839960"/>
              <a:ext cx="6980400" cy="40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Hid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v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they a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=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the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v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they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=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the user through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 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Hiding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"/>
          <p:cNvGrpSpPr/>
          <p:nvPr/>
        </p:nvGrpSpPr>
        <p:grpSpPr>
          <a:xfrm>
            <a:off x="900000" y="1900080"/>
            <a:ext cx="7342200" cy="3922920"/>
            <a:chOff x="900000" y="1900080"/>
            <a:chExt cx="7342200" cy="3922920"/>
          </a:xfrm>
        </p:grpSpPr>
        <p:pic>
          <p:nvPicPr>
            <p:cNvPr id="60" name="Picture 3" descr=""/>
            <p:cNvPicPr/>
            <p:nvPr/>
          </p:nvPicPr>
          <p:blipFill>
            <a:blip r:embed="rId1"/>
            <a:stretch/>
          </p:blipFill>
          <p:spPr>
            <a:xfrm>
              <a:off x="900000" y="1900080"/>
              <a:ext cx="7342200" cy="39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900000" y="1900080"/>
              <a:ext cx="7342200" cy="39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Hiding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sp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are used to provide th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tion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 th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ir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ccess techn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akes the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oup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5:30:59Z</dcterms:created>
  <dc:creator>chengzuo</dc:creator>
  <dc:description/>
  <dc:language>en-US</dc:language>
  <cp:lastModifiedBy>chengzuo</cp:lastModifiedBy>
  <dcterms:modified xsi:type="dcterms:W3CDTF">2013-04-15T15:49:15Z</dcterms:modified>
  <cp:revision>22</cp:revision>
  <dc:subject/>
  <dc:title>Divide and Conquer Methodology</dc:title>
</cp:coreProperties>
</file>