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90484-8F6D-47FE-8E4D-68085E6792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E8516-656E-43A9-8ABA-53A4BC59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CDD0E-13A5-4840-9CE7-1D523BF0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A3C26-9954-4F85-AF20-4AB92343DB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63EF7-66EB-4ACF-8EB1-00C6C4CD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31372-1470-41BE-849F-0ABC2593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A63F4-824D-400F-9771-3F2E5CA2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F9C6C-E5D8-4815-B7BB-B4AD7B549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C1025-D7E3-4F4E-9349-6B4411009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76805-537B-497E-87D9-6CCE6B92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8500C-0506-4BF6-9590-0DA78382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2FADE-B78D-42CE-AAC8-24011736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71D3BA-8D7D-4814-B015-7685949AA72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programming (OO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an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t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ith som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 a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l-defined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an be used to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h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an be used to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used inside a computer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an o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te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 object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urate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n the object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urate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ahoma"/>
              </a:rPr>
              <a:t>Copying an object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 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r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rough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95280" y="2514600"/>
            <a:ext cx="6543720" cy="40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ahoma"/>
              </a:rPr>
              <a:t>Copying an object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576440" y="1709640"/>
            <a:ext cx="5989680" cy="4303800"/>
            <a:chOff x="1576440" y="1709640"/>
            <a:chExt cx="5989680" cy="4303800"/>
          </a:xfrm>
        </p:grpSpPr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1576440" y="1709640"/>
              <a:ext cx="5989680" cy="430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1576440" y="1709640"/>
              <a:ext cx="5989680" cy="43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ahoma"/>
              </a:rPr>
              <a:t>Copying an object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192480" y="1600200"/>
            <a:ext cx="2971800" cy="4875120"/>
            <a:chOff x="3192480" y="1600200"/>
            <a:chExt cx="2971800" cy="487512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3192480" y="1600200"/>
              <a:ext cx="2971800" cy="487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3192480" y="1600200"/>
              <a:ext cx="2971800" cy="487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ahoma"/>
              </a:rPr>
              <a:t>Copying an object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352680" y="1469880"/>
            <a:ext cx="2665440" cy="5234040"/>
            <a:chOff x="3352680" y="1469880"/>
            <a:chExt cx="2665440" cy="5234040"/>
          </a:xfrm>
        </p:grpSpPr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3352680" y="1469880"/>
              <a:ext cx="2665440" cy="523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3352680" y="1469880"/>
              <a:ext cx="2665440" cy="52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s with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variable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/correctness considerations in computer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971800" y="2151000"/>
            <a:ext cx="3557520" cy="43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s with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variab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re exist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lex relationship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etween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aint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ship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ting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restricte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acc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an result in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correc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chan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 can give result i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nsis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s with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variab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there ar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ccess restri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r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447920" y="2514600"/>
            <a:ext cx="6414840" cy="39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s with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variab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23880" y="2362320"/>
            <a:ext cx="6324840" cy="393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found that it's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appropr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put these method inside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kAccount 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971800" y="2438280"/>
            <a:ext cx="3405240" cy="427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s with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variables 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760840" y="1600200"/>
            <a:ext cx="3620880" cy="4524480"/>
            <a:chOff x="2760840" y="1600200"/>
            <a:chExt cx="3620880" cy="452448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2760840" y="1600200"/>
              <a:ext cx="3620880" cy="45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60840" y="1600200"/>
              <a:ext cx="3620880" cy="45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deal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kAccount 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ll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ui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contain/sto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bout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 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nstance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kAccount 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 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ember that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= data +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not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 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695680" y="1600200"/>
            <a:ext cx="3751200" cy="4524480"/>
            <a:chOff x="2695680" y="1600200"/>
            <a:chExt cx="3751200" cy="452448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2695680" y="1600200"/>
              <a:ext cx="3751200" cy="45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695680" y="1600200"/>
              <a:ext cx="3751200" cy="45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 defined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word 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sta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 defined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word 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14600" y="2666880"/>
            <a:ext cx="3943440" cy="495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438280" y="4724280"/>
            <a:ext cx="4210200" cy="5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in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 instance variable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h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local/paramet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lass/insta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/instance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an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 longe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access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ith the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hort h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no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4724640" cy="27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”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compil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ssume that 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 t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819520" y="3429000"/>
            <a:ext cx="3552840" cy="52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”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riable na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used 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id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 metho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ch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a 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cal/paramete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ia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refers to the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/parameter vari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wi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refers to a 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as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iable or an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stanc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i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in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 instance variable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c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problem with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ull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access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666880" y="3733920"/>
            <a:ext cx="4254480" cy="685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2T16:08:43Z</dcterms:created>
  <dc:creator>chengzuo</dc:creator>
  <dc:description/>
  <dc:language>en-US</dc:language>
  <cp:lastModifiedBy>chengzuo</cp:lastModifiedBy>
  <dcterms:modified xsi:type="dcterms:W3CDTF">2012-11-14T15:31:50Z</dcterms:modified>
  <cp:revision>58</cp:revision>
  <dc:subject/>
  <dc:title>Instance methods</dc:title>
</cp:coreProperties>
</file>