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9D13-1E67-4A57-B2F3-A7489440F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37C0-81F9-4016-91F3-2465F651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81ED-A686-4B35-BA6B-F0DA509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5F64-AC5E-4D81-B508-ADB998037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A85D-A7EE-4885-8308-FECD4EE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1D1D-B92C-4123-864F-E9CCF8B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B1C2-A9D2-4252-9658-13799BC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3BBB-F1C3-47E3-B616-2F5A89DC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6E3F-CE09-4519-A947-4C50C2DB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BB25-B8D9-4868-AE86-A8E432BD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BFC9-AFE0-4FF0-9184-DCE7549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1EF8-7360-4392-847A-89763395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07DB2-8636-40FE-8971-2CB891D373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a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kes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xecut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in the bo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nounces (to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we started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-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 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write (only)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sta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 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 LOOP-CONTINUATION-CONDITION 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llow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2057400" y="1944720"/>
            <a:ext cx="5025960" cy="3835440"/>
            <a:chOff x="2057400" y="1944720"/>
            <a:chExt cx="5025960" cy="383544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944720"/>
              <a:ext cx="502596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"/>
            <p:cNvSpPr/>
            <p:nvPr/>
          </p:nvSpPr>
          <p:spPr>
            <a:xfrm>
              <a:off x="2057400" y="1944720"/>
              <a:ext cx="502596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(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2590920" y="2057400"/>
            <a:ext cx="4429080" cy="3162240"/>
            <a:chOff x="2590920" y="2057400"/>
            <a:chExt cx="4429080" cy="3162240"/>
          </a:xfrm>
        </p:grpSpPr>
        <p:pic>
          <p:nvPicPr>
            <p:cNvPr id="54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2057400"/>
              <a:ext cx="442908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4"/>
            <p:cNvSpPr/>
            <p:nvPr/>
          </p:nvSpPr>
          <p:spPr>
            <a:xfrm>
              <a:off x="2590920" y="2057400"/>
              <a:ext cx="442908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(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1523880" y="1447920"/>
            <a:ext cx="6266160" cy="2282760"/>
            <a:chOff x="1523880" y="1447920"/>
            <a:chExt cx="6266160" cy="228276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523880" y="1447920"/>
              <a:ext cx="626616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523880" y="1447920"/>
              <a:ext cx="626616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283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writ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using a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787400" y="1600200"/>
            <a:ext cx="5565960" cy="4522680"/>
            <a:chOff x="1787400" y="1600200"/>
            <a:chExt cx="5565960" cy="452268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>
              <a:off x="1787400" y="1600200"/>
              <a:ext cx="556596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4"/>
            <p:cNvSpPr/>
            <p:nvPr/>
          </p:nvSpPr>
          <p:spPr>
            <a:xfrm>
              <a:off x="1787400" y="1600200"/>
              <a:ext cx="556596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325520" y="1327320"/>
            <a:ext cx="6581880" cy="427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3200400" y="685800"/>
            <a:ext cx="320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ordinate system of a Canva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87400" y="1884240"/>
            <a:ext cx="7458120" cy="3162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3200400" y="685800"/>
            <a:ext cx="320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ordinate system of a Canva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4:48:40Z</dcterms:created>
  <dc:creator>chengzuo</dc:creator>
  <dc:description/>
  <dc:language>en-US</dc:language>
  <cp:lastModifiedBy>chengzuo</cp:lastModifiedBy>
  <dcterms:modified xsi:type="dcterms:W3CDTF">2013-02-22T16:45:19Z</dcterms:modified>
  <cp:revision>15</cp:revision>
  <dc:subject/>
  <dc:title>Nested For-loops</dc:title>
</cp:coreProperties>
</file>