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A7A2-D329-4C16-8285-F9FB551D77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7B2F-1539-4C58-93F0-4ABED10F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1B83-EFC7-4C73-A1AF-CAF0C406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A449-4807-4F32-8634-7E661FBDFB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BFA9-C141-4CBA-A4F0-7B21CA82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F7D64-19AD-4AD4-B121-A791E721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3118-E134-4B40-9066-8749B32F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529A6-F379-46E6-BCEE-15750CCB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4F482-97FB-43C0-9E3C-DF4822B0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C56A-A78B-4D86-BC67-8F7F50F5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9A7F3-966B-4CF3-87E1-35DC4933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85F6-0564-4D30-B622-5D03698B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F572AC-DBD3-40E0-B56E-007C3C8694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Integer numerical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utomatic conversion rul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floating point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integer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precisio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utomatic conversion rules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 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ange of 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 the 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ange of 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 perform an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promo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2 ⇒ typ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64652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05120" y="3505320"/>
            <a:ext cx="5371920" cy="31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28800" y="1523880"/>
            <a:ext cx="5570640" cy="1408320"/>
            <a:chOff x="1828800" y="1523880"/>
            <a:chExt cx="5570640" cy="14083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828800" y="1523880"/>
              <a:ext cx="55706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828800" y="1523880"/>
              <a:ext cx="5570640" cy="14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3048120"/>
            <a:ext cx="342900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integer input from the key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1920" y="1600200"/>
            <a:ext cx="6138720" cy="4524480"/>
            <a:chOff x="1501920" y="1600200"/>
            <a:chExt cx="6138720" cy="452448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501920" y="1600200"/>
              <a:ext cx="613872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501920" y="1600200"/>
              <a:ext cx="613872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 literal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 lit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appears i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umerical literal (constan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3254400" cy="75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124080" y="4495680"/>
            <a:ext cx="34750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 literal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an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 ta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g L or 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lit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 change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literal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2345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the typ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 ta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g F or 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mal lit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 change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literal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23.45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the typ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ing integer constants to byte and short variable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ctly spea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ou need to us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ing ope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3721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ing integer constants to byte and short variabl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literal (constant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r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, 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l (constant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utomatically conver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in the 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data type of the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 is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28 ... 1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14600" y="4495680"/>
            <a:ext cx="1566720" cy="152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62720" y="4572000"/>
            <a:ext cx="149688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ignment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2419560" cy="3295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f var = expr is equal to the value of exp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ing the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s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ur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29988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ignment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a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signment ope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evaluat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416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ger data types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 the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inary number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 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 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3124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statements with the same variable on the LHS and R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1251000"/>
                <a:tab algn="l" pos="2165400"/>
                <a:tab algn="l" pos="3079800"/>
                <a:tab algn="l" pos="3994200"/>
                <a:tab algn="l" pos="4908600"/>
                <a:tab algn="l" pos="5823000"/>
                <a:tab algn="l" pos="6737400"/>
                <a:tab algn="l" pos="7651800"/>
                <a:tab algn="l" pos="8566200"/>
                <a:tab algn="l" pos="9480600"/>
                <a:tab algn="l" pos="103950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"=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notes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1251000"/>
                <a:tab algn="l" pos="2165400"/>
                <a:tab algn="l" pos="3079800"/>
                <a:tab algn="l" pos="3994200"/>
                <a:tab algn="l" pos="4908600"/>
                <a:tab algn="l" pos="5823000"/>
                <a:tab algn="l" pos="6737400"/>
                <a:tab algn="l" pos="7651800"/>
                <a:tab algn="l" pos="8566200"/>
                <a:tab algn="l" pos="9480600"/>
                <a:tab algn="l" pos="103950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1251000"/>
                <a:tab algn="l" pos="2165400"/>
                <a:tab algn="l" pos="3079800"/>
                <a:tab algn="l" pos="3994200"/>
                <a:tab algn="l" pos="4908600"/>
                <a:tab algn="l" pos="5823000"/>
                <a:tab algn="l" pos="6737400"/>
                <a:tab algn="l" pos="7651800"/>
                <a:tab algn="l" pos="8566200"/>
                <a:tab algn="l" pos="9480600"/>
                <a:tab algn="l" pos="103950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will firs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x + 4.0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1251000"/>
                <a:tab algn="l" pos="2165400"/>
                <a:tab algn="l" pos="3079800"/>
                <a:tab algn="l" pos="3994200"/>
                <a:tab algn="l" pos="4908600"/>
                <a:tab algn="l" pos="5823000"/>
                <a:tab algn="l" pos="6737400"/>
                <a:tab algn="l" pos="7651800"/>
                <a:tab algn="l" pos="8566200"/>
                <a:tab algn="l" pos="9480600"/>
                <a:tab algn="l" pos="103950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fr-FR" sz="2400" spc="-1" strike="noStrike">
                <a:solidFill>
                  <a:srgbClr val="0070c0"/>
                </a:solidFill>
                <a:latin typeface="Times New Roman"/>
              </a:rPr>
              <a:t>RHS = x + 4.0 (x contains 1.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1251000"/>
                <a:tab algn="l" pos="2165400"/>
                <a:tab algn="l" pos="3079800"/>
                <a:tab algn="l" pos="3994200"/>
                <a:tab algn="l" pos="4908600"/>
                <a:tab algn="l" pos="5823000"/>
                <a:tab algn="l" pos="6737400"/>
                <a:tab algn="l" pos="7651800"/>
                <a:tab algn="l" pos="8566200"/>
                <a:tab algn="l" pos="9480600"/>
                <a:tab algn="l" pos="10395000"/>
                <a:tab algn="l" pos="105156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Times New Roman"/>
              </a:rPr>
              <a:t>                      </a:t>
            </a:r>
            <a:r>
              <a:rPr b="1" lang="fr-FR" sz="2400" spc="-1" strike="noStrike">
                <a:solidFill>
                  <a:srgbClr val="0070c0"/>
                </a:solidFill>
                <a:latin typeface="Times New Roman"/>
              </a:rPr>
              <a:t>= 1.0 + 4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1251000"/>
                <a:tab algn="l" pos="2165400"/>
                <a:tab algn="l" pos="3079800"/>
                <a:tab algn="l" pos="3994200"/>
                <a:tab algn="l" pos="4908600"/>
                <a:tab algn="l" pos="5823000"/>
                <a:tab algn="l" pos="6737400"/>
                <a:tab algn="l" pos="7651800"/>
                <a:tab algn="l" pos="8566200"/>
                <a:tab algn="l" pos="9480600"/>
                <a:tab algn="l" pos="10395000"/>
                <a:tab algn="l" pos="105156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Times New Roman"/>
              </a:rPr>
              <a:t>                      </a:t>
            </a:r>
            <a:r>
              <a:rPr b="1" lang="fr-FR" sz="2400" spc="-1" strike="noStrike">
                <a:solidFill>
                  <a:srgbClr val="0070c0"/>
                </a:solidFill>
                <a:latin typeface="Times New Roman"/>
              </a:rPr>
              <a:t>= 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1251000"/>
                <a:tab algn="l" pos="2165400"/>
                <a:tab algn="l" pos="3079800"/>
                <a:tab algn="l" pos="3994200"/>
                <a:tab algn="l" pos="4908600"/>
                <a:tab algn="l" pos="5823000"/>
                <a:tab algn="l" pos="6737400"/>
                <a:tab algn="l" pos="7651800"/>
                <a:tab algn="l" pos="8566200"/>
                <a:tab algn="l" pos="9480600"/>
                <a:tab algn="l" pos="103950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 The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 5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ig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to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eiving variable 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1251000"/>
                <a:tab algn="l" pos="2165400"/>
                <a:tab algn="l" pos="3079800"/>
                <a:tab algn="l" pos="3994200"/>
                <a:tab algn="l" pos="4908600"/>
                <a:tab algn="l" pos="5823000"/>
                <a:tab algn="l" pos="6737400"/>
                <a:tab algn="l" pos="7651800"/>
                <a:tab algn="l" pos="8566200"/>
                <a:tab algn="l" pos="9480600"/>
                <a:tab algn="l" pos="10395000"/>
                <a:tab algn="l" pos="105156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x = 5.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1251000"/>
                <a:tab algn="l" pos="2165400"/>
                <a:tab algn="l" pos="3079800"/>
                <a:tab algn="l" pos="3994200"/>
                <a:tab algn="l" pos="4908600"/>
                <a:tab algn="l" pos="5823000"/>
                <a:tab algn="l" pos="6737400"/>
                <a:tab algn="l" pos="7651800"/>
                <a:tab algn="l" pos="8566200"/>
                <a:tab algn="l" pos="9480600"/>
                <a:tab algn="l" pos="103950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1251000"/>
                <a:tab algn="l" pos="2165400"/>
                <a:tab algn="l" pos="3079800"/>
                <a:tab algn="l" pos="3994200"/>
                <a:tab algn="l" pos="4908600"/>
                <a:tab algn="l" pos="5823000"/>
                <a:tab algn="l" pos="6737400"/>
                <a:tab algn="l" pos="7651800"/>
                <a:tab algn="l" pos="8566200"/>
                <a:tab algn="l" pos="9480600"/>
                <a:tab algn="l" pos="103950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execu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the statemen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x = x + 4.0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 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contain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 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1251000"/>
                <a:tab algn="l" pos="2165400"/>
                <a:tab algn="l" pos="3079800"/>
                <a:tab algn="l" pos="3994200"/>
                <a:tab algn="l" pos="4908600"/>
                <a:tab algn="l" pos="5823000"/>
                <a:tab algn="l" pos="6737400"/>
                <a:tab algn="l" pos="7651800"/>
                <a:tab algn="l" pos="8566200"/>
                <a:tab algn="l" pos="9480600"/>
                <a:tab algn="l" pos="103950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hand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4952880"/>
            <a:ext cx="5010120" cy="92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hand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er w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express something that 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ready avail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057400" y="2819520"/>
            <a:ext cx="5067360" cy="16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++ and --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ope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ppear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ope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ppear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perations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+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will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r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 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twee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+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that is 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return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by the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++ and --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-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+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/decrement 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pr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in the variable 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-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/decrement 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pr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in the variable 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396216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++ and --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257640" y="1987560"/>
            <a:ext cx="2627280" cy="3749760"/>
            <a:chOff x="3257640" y="1987560"/>
            <a:chExt cx="2627280" cy="374976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3257640" y="1987560"/>
              <a:ext cx="2627280" cy="374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257640" y="1987560"/>
              <a:ext cx="262728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ope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pe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(operate 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per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 integ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574344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and associativity of the integer arithmetic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971800" y="2133720"/>
            <a:ext cx="3560760" cy="1388880"/>
            <a:chOff x="2971800" y="2133720"/>
            <a:chExt cx="3560760" cy="13888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971800" y="2133720"/>
              <a:ext cx="35607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971800" y="2133720"/>
              <a:ext cx="356076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14600" y="4114800"/>
            <a:ext cx="468648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ger data types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uter c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erform operations on operands of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ate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                                         in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240660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8680" y="2971800"/>
            <a:ext cx="2222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conversions in Integer arithme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 converted 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operation (+, −, *, /, 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per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 converted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 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per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4876920"/>
            <a:ext cx="40608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4876920"/>
            <a:ext cx="37069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conver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afe conver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279216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352680" y="4191120"/>
            <a:ext cx="28321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type conversion in 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integer conver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10212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76520" y="3352680"/>
            <a:ext cx="2382840" cy="3124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57800" y="3352680"/>
            <a:ext cx="26542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utomatic conversion rule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integer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vert any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precision integer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vert any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precision integer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 numbers (float and doubl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floating point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vert any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precision float 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14:39:51Z</dcterms:created>
  <dc:creator>chengzuo</dc:creator>
  <dc:description/>
  <dc:language>en-US</dc:language>
  <cp:lastModifiedBy>chengzuo</cp:lastModifiedBy>
  <dcterms:modified xsi:type="dcterms:W3CDTF">2013-02-01T16:08:34Z</dcterms:modified>
  <cp:revision>99</cp:revision>
  <dc:subject/>
  <dc:title>Integer numerical data types</dc:title>
</cp:coreProperties>
</file>