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EC4-F802-41AB-8200-CA3CF08C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06E-0ACA-4328-BCD2-67EC26D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C2C-7977-4E96-8468-A004C1F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569-76A1-4201-883A-A604E0A8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4DF-7B2A-4D5C-9573-60A6263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AB9-B2F9-46B6-8800-1B89E408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378-626D-40E5-B3EF-B1C9BC1F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AE8-2FC3-4D91-996B-813C276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167-F85F-4022-B853-25BA44F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AD4-0A53-492E-8D5E-49895E3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311-129F-4477-A002-848DECC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0A8-3EA3-4DB9-ACC9-E3F9773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FD0-7519-41B9-BAF1-04C91AC452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and to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using values given insid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ob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QQ截图20121119111848.png"/>
          <p:cNvPicPr/>
          <p:nvPr/>
        </p:nvPicPr>
        <p:blipFill>
          <a:blip r:embed="rId1"/>
          <a:stretch/>
        </p:blipFill>
        <p:spPr>
          <a:xfrm>
            <a:off x="0" y="2286000"/>
            <a:ext cx="4589640" cy="3046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QQ截图20121119111902.png"/>
          <p:cNvPicPr/>
          <p:nvPr/>
        </p:nvPicPr>
        <p:blipFill>
          <a:blip r:embed="rId2"/>
          <a:stretch/>
        </p:blipFill>
        <p:spPr>
          <a:xfrm>
            <a:off x="4921200" y="2286000"/>
            <a:ext cx="4222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: Copy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use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create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ct) 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3" descr="QQ截图20121119112053.png"/>
          <p:cNvPicPr/>
          <p:nvPr/>
        </p:nvPicPr>
        <p:blipFill>
          <a:blip r:embed="rId1"/>
          <a:stretch/>
        </p:blipFill>
        <p:spPr>
          <a:xfrm>
            <a:off x="1295280" y="32004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conversion of variables of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-defin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 to St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betw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ferre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fere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tomatic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ve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3" descr="QQ截图20121119112841.png"/>
          <p:cNvPicPr/>
          <p:nvPr/>
        </p:nvPicPr>
        <p:blipFill>
          <a:blip r:embed="rId1"/>
          <a:stretch/>
        </p:blipFill>
        <p:spPr>
          <a:xfrm>
            <a:off x="1766880" y="2101680"/>
            <a:ext cx="561024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⇒ String conversion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ing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3" descr="QQ截图20121119113109.png"/>
          <p:cNvPicPr/>
          <p:nvPr/>
        </p:nvPicPr>
        <p:blipFill>
          <a:blip r:embed="rId1"/>
          <a:stretch/>
        </p:blipFill>
        <p:spPr>
          <a:xfrm>
            <a:off x="2195640" y="2938320"/>
            <a:ext cx="47527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⇒ String convers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内容占位符 3" descr="QQ截图20121119113734.png"/>
          <p:cNvPicPr/>
          <p:nvPr/>
        </p:nvPicPr>
        <p:blipFill>
          <a:blip r:embed="rId1"/>
          <a:stretch/>
        </p:blipFill>
        <p:spPr>
          <a:xfrm>
            <a:off x="1414440" y="2097000"/>
            <a:ext cx="63151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ru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n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defined inside so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n 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at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y the new ope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is cre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invok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used t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itial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reated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at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ve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d using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 spec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QQ截图20121119104747.png"/>
          <p:cNvPicPr/>
          <p:nvPr/>
        </p:nvPicPr>
        <p:blipFill>
          <a:blip r:embed="rId1"/>
          <a:stretch/>
        </p:blipFill>
        <p:spPr>
          <a:xfrm>
            <a:off x="2293920" y="1600200"/>
            <a:ext cx="45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pends on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and typ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pecified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 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i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ning conversion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s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QQ截图20121119105406.png"/>
          <p:cNvPicPr/>
          <p:nvPr/>
        </p:nvPicPr>
        <p:blipFill>
          <a:blip r:embed="rId1"/>
          <a:stretch/>
        </p:blipFill>
        <p:spPr>
          <a:xfrm>
            <a:off x="2443320" y="1820880"/>
            <a:ext cx="4257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one constructor method in each Java clas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ct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(possibly many)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inside the clas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inv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itio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one constructor method in each Java clas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cont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tomatic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following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3" descr="QQ截图20121119110646.png"/>
          <p:cNvPicPr/>
          <p:nvPr/>
        </p:nvPicPr>
        <p:blipFill>
          <a:blip r:embed="rId1"/>
          <a:stretch/>
        </p:blipFill>
        <p:spPr>
          <a:xfrm>
            <a:off x="2819520" y="4191120"/>
            <a:ext cx="35812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one constructor method in each Java class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3" descr="QQ截图20121119111038.png"/>
          <p:cNvPicPr/>
          <p:nvPr/>
        </p:nvPicPr>
        <p:blipFill>
          <a:blip r:embed="rId1"/>
          <a:stretch/>
        </p:blipFill>
        <p:spPr>
          <a:xfrm>
            <a:off x="1638360" y="2201760"/>
            <a:ext cx="58672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5:34:28Z</dcterms:created>
  <dc:creator>chengzuo</dc:creator>
  <dc:description/>
  <dc:language>en-US</dc:language>
  <cp:lastModifiedBy>chengzuo</cp:lastModifiedBy>
  <dcterms:modified xsi:type="dcterms:W3CDTF">2012-11-19T16:39:05Z</dcterms:modified>
  <cp:revision>49</cp:revision>
  <dc:subject/>
  <dc:title>Constructor and toString</dc:title>
</cp:coreProperties>
</file>