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70080" y="142560"/>
            <a:ext cx="10461600" cy="123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70080" y="5752440"/>
            <a:ext cx="1046160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0840" y="276876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0840" y="5752440"/>
            <a:ext cx="510516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744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4800" y="276876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7008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744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4800" y="5752440"/>
            <a:ext cx="3368520" cy="27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70080" y="5028840"/>
            <a:ext cx="10461600" cy="112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046160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50385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2674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0" y="2768760"/>
            <a:ext cx="395928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2296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503856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2674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10461600" cy="57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05280" indent="0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080" y="2971440"/>
            <a:ext cx="10461600" cy="380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70080" y="1269720"/>
            <a:ext cx="10461600" cy="72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298440" indent="0">
              <a:spcBef>
                <a:spcPts val="4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0080" y="688608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0080" y="688608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4680" y="4787640"/>
            <a:ext cx="586404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4680" y="1409400"/>
            <a:ext cx="586404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4680" y="4787640"/>
            <a:ext cx="586404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4680" y="1409400"/>
            <a:ext cx="586404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16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18680" y="3503520"/>
            <a:ext cx="1061748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101347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 while-state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2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ll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visors of 2 numbers (1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descriptio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reads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numbers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r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ivi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both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: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x = 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y = 16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1, 2, 4, 8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2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ll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visors of 2 numbers (2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put x, y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min = min(x, y);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// this is the range of the brute force search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or (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 = 1, 2, ...., min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) do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x and y are divisible by a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rint a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9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2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ll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visors of 2 numbers (3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19040" y="2309400"/>
            <a:ext cx="10528560" cy="744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1600" spc="-1" strike="noStrike">
                <a:solidFill>
                  <a:srgbClr val="0a5302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a5302"/>
                </a:solidFill>
                <a:latin typeface="Courier New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a5302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while (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 &lt;= min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 )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// Run a = 1, 2, ..., min(x,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x % a == 0  &amp;&amp;  y % a == 0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  // a is a divisor of x and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a);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++;          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a5302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ide a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loop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loop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terminated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tatement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ollowing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the loop-stat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2743200" y="2298600"/>
            <a:ext cx="759456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9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2311560" y="3263760"/>
            <a:ext cx="83944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to process data fil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Font typeface="Times New Roman"/>
              <a:buChar char="■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ument stored inside a computer system that contain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formation (dat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cre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a computer program called an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d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also be created whe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s to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store its output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procedure to access a data fil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omputer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rea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 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ata fi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i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then use a </a:t>
            </a:r>
            <a:r>
              <a:rPr b="1" i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"read something from a file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opened fi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helpful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n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opened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t you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you have reached the 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nd of the fi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ing a data fil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a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File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myFile;    // Define a "File" type vari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myFile =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new File("Path-name-of-the-file");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variable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my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ut the </a:t>
            </a:r>
            <a:r>
              <a:rPr b="1" i="1" lang="en-US" sz="2400" spc="-1" strike="noStrike">
                <a:solidFill>
                  <a:srgbClr val="760078"/>
                </a:solidFill>
                <a:latin typeface="Times New Roman"/>
                <a:ea typeface="Times New Roman"/>
              </a:rPr>
              <a:t>opened</a:t>
            </a:r>
            <a:r>
              <a:rPr b="1" lang="en-US" sz="2400" spc="-1" strike="noStrike">
                <a:solidFill>
                  <a:srgbClr val="760078"/>
                </a:solidFill>
                <a:latin typeface="Times New Roman"/>
                <a:ea typeface="Times New Roman"/>
              </a:rPr>
              <a:t> 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variable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my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used in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read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ing an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 (1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Scanner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an </a:t>
            </a:r>
            <a:r>
              <a:rPr b="1" i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opened</a:t>
            </a:r>
            <a:r>
              <a:rPr b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Fil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myFile;    // Define a "File" type vari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yFile =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new File("Path-name-of-the-file");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// Open the 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canner in;                   // Define a Scanner typed variable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 = new Scanner(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myFil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);     // Construct a Scanner that re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// data from opened file"myFile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ing an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 (2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 point onwards, you can u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1199"/>
              </a:spcBef>
              <a:buClr>
                <a:srgbClr val="fb0007"/>
              </a:buClr>
              <a:buFont typeface="Courier New"/>
              <a:buChar char="◦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nextDoubl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ad 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loating point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Courier New"/>
              <a:buChar char="◦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nextIn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ad an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teger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Courier New"/>
              <a:buChar char="◦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ad 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tring (wo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and meaning of the while-statemen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69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LOOP-CONTINUATION-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Boolean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actly the same as in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ond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n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2692440" y="3441600"/>
            <a:ext cx="792468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ing for available input dat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very useful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ailable in the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Scanner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mpty (exhaust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no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1752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put avail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Scanner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typed variable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Courier New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hasNextDouble(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Courier New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hasNextInt(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371600" indent="-31752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Courier New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in.hasNext(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130292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: print the content of a data file (1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-571680">
              <a:lnSpc>
                <a:spcPct val="100000"/>
              </a:lnSpc>
              <a:spcBef>
                <a:spcPts val="2401"/>
              </a:spcBef>
              <a:buClr>
                <a:srgbClr val="0000fe"/>
              </a:buClr>
              <a:buSzPct val="171000"/>
              <a:buFont typeface="Gill Sans"/>
              <a:buChar char="•"/>
              <a:tabLst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Open the file "inp1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Construct a Scanner object using the opened file   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as long as (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there is data in the Scanner object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read a word from the Scanner objec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print the word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11124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: print the content of a data file (2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3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File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  </a:t>
            </a:r>
            <a:r>
              <a:rPr b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il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myFil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= new File(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"inp1"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);     // Open file "inp1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canner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= new Scanner(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myFil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);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tring x;        // Variable to receive a str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while (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.</a:t>
            </a:r>
            <a:r>
              <a:rPr b="1" lang="en-US" sz="2400" spc="-1" strike="noStrike">
                <a:solidFill>
                  <a:srgbClr val="760078"/>
                </a:solidFill>
                <a:latin typeface="Times New Roman"/>
                <a:ea typeface="Times New Roman"/>
              </a:rPr>
              <a:t>hasNext()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.</a:t>
            </a:r>
            <a:r>
              <a:rPr b="1" lang="en-US" sz="2400" spc="-1" strike="noStrike">
                <a:solidFill>
                  <a:srgbClr val="760078"/>
                </a:solidFill>
                <a:latin typeface="Times New Roman"/>
                <a:ea typeface="Times New Roman"/>
              </a:rPr>
              <a:t>next()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// Read a string (wor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x);    // Print string re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Done"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23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 of a 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(1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9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2158920" y="2908440"/>
            <a:ext cx="7937640" cy="51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 of a 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ment (2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14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34160" indent="-30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800" spc="-1" strike="noStrike">
                <a:solidFill>
                  <a:srgbClr val="fb0007"/>
                </a:solidFill>
                <a:latin typeface="Courier New"/>
                <a:ea typeface="Courier New"/>
              </a:rPr>
              <a:t>loop-cont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i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execution takes the </a:t>
            </a:r>
            <a:r>
              <a:rPr b="1" lang="en-US" sz="28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downward bra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302840" indent="-30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tat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for the </a:t>
            </a:r>
            <a:r>
              <a:rPr b="1" i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body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of the while-state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302840" indent="-30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goes 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rete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lang="en-US" sz="2800" spc="-1" strike="noStrike">
                <a:solidFill>
                  <a:srgbClr val="fb0007"/>
                </a:solidFill>
                <a:latin typeface="Courier New"/>
                <a:ea typeface="Courier New"/>
              </a:rPr>
              <a:t>loop-cont-cond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b0007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34160" indent="-30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800" spc="-1" strike="noStrike">
                <a:solidFill>
                  <a:srgbClr val="fb0007"/>
                </a:solidFill>
                <a:latin typeface="Courier New"/>
                <a:ea typeface="Courier New"/>
              </a:rPr>
              <a:t>loop-cont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i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execution takes the </a:t>
            </a:r>
            <a:r>
              <a:rPr b="1" lang="en-US" sz="28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side bran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302840" indent="-301320">
              <a:lnSpc>
                <a:spcPct val="100000"/>
              </a:lnSpc>
              <a:spcBef>
                <a:spcPts val="2401"/>
              </a:spcBef>
              <a:buClr>
                <a:srgbClr val="fb0007"/>
              </a:buClr>
              <a:buFont typeface="Times New Roman"/>
              <a:buChar char="■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case,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roceeds (continu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statement </a:t>
            </a:r>
            <a:r>
              <a:rPr b="1" i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following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the while-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: the </a:t>
            </a:r>
            <a:r>
              <a:rPr b="1" lang="en-US" sz="28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while-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omple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iagra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ing a </a:t>
            </a:r>
            <a:r>
              <a:rPr b="1" lang="en-US" sz="3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while-statemen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9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1790640" y="3186000"/>
            <a:ext cx="9420120" cy="42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118880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-statemen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nt the numbers 1 through 10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43080" y="2513160"/>
            <a:ext cx="1051560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public class While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a = 1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while (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a &lt;= 10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)            // While-statement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System.out.println(a);    // Print 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         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Courier New"/>
              </a:rPr>
              <a:t>a++;                      // Increment 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System.out.println("Done"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System.out.println("Exit: a = " + a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0">
              <a:lnSpc>
                <a:spcPct val="100000"/>
              </a:lnSpc>
              <a:buNone/>
              <a:tabLst>
                <a:tab algn="l" pos="0"/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ming (1)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ll divisor of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number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you would have done thi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12 is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ivisible by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12 is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ivisible by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12 is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ivisible by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o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to check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numbers &gt;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</a:t>
            </a:r>
            <a:r>
              <a:rPr b="1" i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only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number ≤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56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1076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remain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qual to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print out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ivis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ming (2)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algorithm (pseudo code) to find all divisor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input: n = some integer numb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for (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x = 1, 2, 3, ..., n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) 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if ( </a:t>
            </a:r>
            <a:r>
              <a:rPr b="1" lang="en-US" sz="2400" spc="-1" strike="noStrike">
                <a:solidFill>
                  <a:srgbClr val="fb0007"/>
                </a:solidFill>
                <a:latin typeface="Courier New"/>
                <a:ea typeface="Courier New"/>
              </a:rPr>
              <a:t>n is divisible by x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) th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print x;     (because x is a divisor !) 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f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as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written 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uld do to find all divisors in a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seudo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32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programming (3)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42720" y="1827000"/>
            <a:ext cx="10464840" cy="739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nt x =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while (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x &lt;= n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)             // Run x = 1, 2, ..., 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f (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n % x == 0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)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System.out.println(x); // Print x (because it's a diviso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x++;                      // Make sure we more to the next number 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5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88596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8544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ngzuo</dc:creator>
  <dc:description/>
  <dc:language>en-US</dc:language>
  <cp:lastModifiedBy>chengzuo</cp:lastModifiedBy>
  <dcterms:modified xsi:type="dcterms:W3CDTF">2013-02-18T06:55:59Z</dcterms:modified>
  <cp:revision>24</cp:revision>
  <dc:subject/>
  <dc:title>  </dc:title>
</cp:coreProperties>
</file>