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13374-8E33-43EA-B19A-9FB6E95420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4DC21-CEB5-487D-9781-036E3E71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A3F59-F9EF-4FE5-9AB5-495F8C35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982E3-C995-4DE2-BE38-37361BEB0D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1D952-F995-4187-914B-6E9E8A67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9A248-D1E9-4D97-83B1-92989274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74B11-5D0F-4496-9C45-3BAF3FC4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5AD1B-7B02-45C2-9C7C-2A03025C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FF226-5F01-44D8-A0A7-9E9BA1E96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4FB45-E10B-43F3-9023-C67444ED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09F34-1448-4097-9DD0-7FE911D8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582A4-4DFB-4E19-B7AA-7CE255EA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5443A-6381-4A0F-BD79-01C1B547A42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ahoma"/>
              </a:rPr>
              <a:t>St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ng if strings are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ased on their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 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used to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wo strin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ithout considering upper/low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se differ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19320" y="3352680"/>
            <a:ext cx="71895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king 2 strings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used to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ank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of two strin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pha-numeric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38280" y="2666880"/>
            <a:ext cx="4172040" cy="1924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5467320" cy="590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438280" y="5410080"/>
            <a:ext cx="43531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king 2 strings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used to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wo strin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ithout considering upper/lower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pha-numeric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828800" y="3352680"/>
            <a:ext cx="5991120" cy="19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ing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rings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ing (locat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r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ccurre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 substring su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066760" y="2381400"/>
            <a:ext cx="5010480" cy="2095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905120" y="4486320"/>
            <a:ext cx="5657760" cy="23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ing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rings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used to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(locat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ccurre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 substring su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057400" y="2847960"/>
            <a:ext cx="4981680" cy="2181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467000" y="5486400"/>
            <a:ext cx="6076800" cy="7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ation Operations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upper case lett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to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wer ca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lower case lett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to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pper ca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666880" y="2209680"/>
            <a:ext cx="4038840" cy="2108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666880" y="4583160"/>
            <a:ext cx="4276800" cy="227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ation Operations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l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rs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occurrenc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a substring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side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y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ring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l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occurrenc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 substring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side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y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ring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352680" y="2362320"/>
            <a:ext cx="3784680" cy="1925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200400" y="5029200"/>
            <a:ext cx="3657600" cy="18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 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re 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mmut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 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 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chan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icit parameter 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str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981080" y="2654280"/>
            <a:ext cx="5800680" cy="40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and Array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a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ng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ray of ch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re a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ri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ultipl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to 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 of ch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362320" y="4191120"/>
            <a:ext cx="461016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and Array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 ch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to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 o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e use a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struc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 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76520" y="2971800"/>
            <a:ext cx="6200640" cy="19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of String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a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-defin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at is created by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ho implemented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libr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00400" y="2590920"/>
            <a:ext cx="329580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and Array (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ces ar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go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at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libr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ontains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at help you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your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of String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variables (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bject definition synt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compil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recognize a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hort h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no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 cre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00200" y="5257800"/>
            <a:ext cx="6324480" cy="1090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905120" y="2514600"/>
            <a:ext cx="552744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a 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 objec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 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an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71600" y="2286000"/>
            <a:ext cx="6629400" cy="41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method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n 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 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form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 use an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n a String o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23920" y="2909880"/>
            <a:ext cx="5096160" cy="10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method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n 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 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ngth(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 st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arAt(n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ca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t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 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the st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14600" y="2286000"/>
            <a:ext cx="4124160" cy="128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514600" y="4495680"/>
            <a:ext cx="4162320" cy="15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method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n 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 (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bstring(i,j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turns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from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 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 to (not including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 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 st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catena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971800" y="2590920"/>
            <a:ext cx="3657600" cy="1393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80880" y="4800600"/>
            <a:ext cx="4010040" cy="1362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419720" y="4800600"/>
            <a:ext cx="4524120" cy="13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son 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0020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per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ompare whether the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d in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r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st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= 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does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hether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tored i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r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 one an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81080" y="2590920"/>
            <a:ext cx="54072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ng if strings are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ased on their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 (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used to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e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qual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wo strin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ased on their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t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47920" y="3048120"/>
            <a:ext cx="6296040" cy="18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30T15:31:47Z</dcterms:created>
  <dc:creator>chengzuo</dc:creator>
  <dc:description/>
  <dc:language>en-US</dc:language>
  <cp:lastModifiedBy>chengzuo</cp:lastModifiedBy>
  <cp:lastPrinted>2012-11-30T18:39:51Z</cp:lastPrinted>
  <dcterms:modified xsi:type="dcterms:W3CDTF">2012-11-30T17:08:50Z</dcterms:modified>
  <cp:revision>79</cp:revision>
  <dc:subject/>
  <dc:title>String</dc:title>
</cp:coreProperties>
</file>